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201-A605-458A-934A-07732627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0812-C9C9-44AA-B6EB-E1CA89FF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6D98-DA6C-4D54-BFBE-4F3A5D7A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2FD2-6DA2-4647-8901-85FEDC78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31EC-DC05-4839-966F-E7921960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BA9-4831-45F8-8501-C3F6F880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FD4-FFAB-435E-A22E-132428A2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26C2-393E-4402-A8DD-10C356A1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7E0B-231E-4A9C-80FB-BF732EE5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B30-D7AE-4CD0-A1CF-65278BA1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5634-CAFC-4AA4-ABC7-AC9778A4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9288-2C08-49AC-9D64-866B6611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B9CB-73CE-4F44-AB86-D1AFD9684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review for th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 x p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  p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: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4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    x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 the rule for the function tab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19920" y="3809880"/>
          <a:ext cx="2742480" cy="2343240"/>
        </p:xfrm>
        <a:graphic>
          <a:graphicData uri="http://schemas.openxmlformats.org/drawingml/2006/table">
            <a:tbl>
              <a:tblPr/>
              <a:tblGrid>
                <a:gridCol w="1373040"/>
                <a:gridCol w="1369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3375000" y="1197000"/>
            <a:ext cx="1876320" cy="965160"/>
          </a:xfrm>
          <a:custGeom>
            <a:avLst/>
            <a:gdLst/>
            <a:ahLst/>
            <a:rect l="l" t="t" r="r" b="b"/>
            <a:pathLst>
              <a:path w="5210" h="2680">
                <a:moveTo>
                  <a:pt x="11311" y="3373"/>
                </a:moveTo>
                <a:cubicBezTo>
                  <a:pt x="11283" y="3430"/>
                  <a:pt x="11267" y="3449"/>
                  <a:pt x="11212" y="3448"/>
                </a:cubicBezTo>
                <a:cubicBezTo>
                  <a:pt x="11231" y="3339"/>
                  <a:pt x="11336" y="3230"/>
                  <a:pt x="11435" y="3398"/>
                </a:cubicBezTo>
                <a:cubicBezTo>
                  <a:pt x="11526" y="3552"/>
                  <a:pt x="11328" y="3792"/>
                  <a:pt x="11162" y="3746"/>
                </a:cubicBezTo>
                <a:cubicBezTo>
                  <a:pt x="11154" y="3729"/>
                  <a:pt x="11145" y="3713"/>
                  <a:pt x="11137" y="3696"/>
                </a:cubicBezTo>
                <a:cubicBezTo>
                  <a:pt x="11258" y="3587"/>
                  <a:pt x="11355" y="3616"/>
                  <a:pt x="11485" y="3746"/>
                </a:cubicBezTo>
                <a:cubicBezTo>
                  <a:pt x="11493" y="3762"/>
                  <a:pt x="11501" y="3779"/>
                  <a:pt x="11509" y="3795"/>
                </a:cubicBezTo>
              </a:path>
              <a:path w="5210" h="2680">
                <a:moveTo>
                  <a:pt x="9376" y="4762"/>
                </a:moveTo>
                <a:cubicBezTo>
                  <a:pt x="9415" y="4879"/>
                  <a:pt x="9444" y="4991"/>
                  <a:pt x="9475" y="5110"/>
                </a:cubicBezTo>
                <a:cubicBezTo>
                  <a:pt x="9793" y="5080"/>
                  <a:pt x="10097" y="4993"/>
                  <a:pt x="10418" y="4961"/>
                </a:cubicBezTo>
                <a:cubicBezTo>
                  <a:pt x="10576" y="4945"/>
                  <a:pt x="10956" y="5021"/>
                  <a:pt x="10988" y="4812"/>
                </a:cubicBezTo>
                <a:cubicBezTo>
                  <a:pt x="10968" y="4647"/>
                  <a:pt x="10960" y="4614"/>
                  <a:pt x="10964" y="4514"/>
                </a:cubicBezTo>
              </a:path>
              <a:path w="5210" h="2680">
                <a:moveTo>
                  <a:pt x="9947" y="5457"/>
                </a:moveTo>
                <a:cubicBezTo>
                  <a:pt x="9966" y="5427"/>
                  <a:pt x="10183" y="5250"/>
                  <a:pt x="10195" y="5407"/>
                </a:cubicBezTo>
                <a:cubicBezTo>
                  <a:pt x="10206" y="5551"/>
                  <a:pt x="10117" y="5583"/>
                  <a:pt x="10021" y="5631"/>
                </a:cubicBezTo>
                <a:cubicBezTo>
                  <a:pt x="10129" y="5598"/>
                  <a:pt x="10378" y="5557"/>
                  <a:pt x="10244" y="5779"/>
                </a:cubicBezTo>
                <a:cubicBezTo>
                  <a:pt x="10139" y="5953"/>
                  <a:pt x="9971" y="5849"/>
                  <a:pt x="9847" y="5804"/>
                </a:cubicBezTo>
              </a:path>
              <a:path w="5210" h="2680">
                <a:moveTo>
                  <a:pt x="10567" y="5333"/>
                </a:moveTo>
                <a:cubicBezTo>
                  <a:pt x="10449" y="5509"/>
                  <a:pt x="10444" y="5605"/>
                  <a:pt x="10542" y="5779"/>
                </a:cubicBezTo>
                <a:cubicBezTo>
                  <a:pt x="10744" y="5645"/>
                  <a:pt x="10782" y="5578"/>
                  <a:pt x="10666" y="5358"/>
                </a:cubicBezTo>
              </a:path>
              <a:path w="5210" h="2680">
                <a:moveTo>
                  <a:pt x="11187" y="5457"/>
                </a:moveTo>
                <a:cubicBezTo>
                  <a:pt x="11295" y="5452"/>
                  <a:pt x="11379" y="5445"/>
                  <a:pt x="11485" y="5432"/>
                </a:cubicBezTo>
              </a:path>
              <a:path w="5210" h="2680">
                <a:moveTo>
                  <a:pt x="11311" y="5184"/>
                </a:moveTo>
                <a:lnTo>
                  <a:pt x="11311" y="5184"/>
                </a:lnTo>
              </a:path>
              <a:path w="5210" h="2680">
                <a:moveTo>
                  <a:pt x="11336" y="5705"/>
                </a:moveTo>
                <a:lnTo>
                  <a:pt x="11336" y="5705"/>
                </a:lnTo>
              </a:path>
              <a:path w="5210" h="2680">
                <a:moveTo>
                  <a:pt x="12005" y="5135"/>
                </a:moveTo>
                <a:cubicBezTo>
                  <a:pt x="11876" y="5148"/>
                  <a:pt x="11862" y="5214"/>
                  <a:pt x="11807" y="5333"/>
                </a:cubicBezTo>
                <a:cubicBezTo>
                  <a:pt x="12013" y="5333"/>
                  <a:pt x="12148" y="5338"/>
                  <a:pt x="12328" y="5432"/>
                </a:cubicBezTo>
                <a:cubicBezTo>
                  <a:pt x="12216" y="5642"/>
                  <a:pt x="12092" y="5640"/>
                  <a:pt x="11857" y="5631"/>
                </a:cubicBezTo>
              </a:path>
              <a:path w="5210" h="2680">
                <a:moveTo>
                  <a:pt x="12849" y="5308"/>
                </a:moveTo>
                <a:cubicBezTo>
                  <a:pt x="12981" y="5308"/>
                  <a:pt x="13031" y="5308"/>
                  <a:pt x="13122" y="5308"/>
                </a:cubicBezTo>
              </a:path>
              <a:path w="5210" h="2680">
                <a:moveTo>
                  <a:pt x="12923" y="5556"/>
                </a:moveTo>
                <a:lnTo>
                  <a:pt x="12923" y="5556"/>
                </a:lnTo>
              </a:path>
              <a:path w="5210" h="2680">
                <a:moveTo>
                  <a:pt x="13692" y="5060"/>
                </a:moveTo>
                <a:cubicBezTo>
                  <a:pt x="13646" y="5280"/>
                  <a:pt x="13567" y="5531"/>
                  <a:pt x="13866" y="5606"/>
                </a:cubicBezTo>
                <a:cubicBezTo>
                  <a:pt x="14066" y="5656"/>
                  <a:pt x="14155" y="5556"/>
                  <a:pt x="14263" y="5432"/>
                </a:cubicBezTo>
                <a:cubicBezTo>
                  <a:pt x="14197" y="5341"/>
                  <a:pt x="14060" y="5321"/>
                  <a:pt x="14039" y="5482"/>
                </a:cubicBezTo>
                <a:cubicBezTo>
                  <a:pt x="14047" y="5523"/>
                  <a:pt x="14056" y="5565"/>
                  <a:pt x="14064" y="5606"/>
                </a:cubicBezTo>
              </a:path>
              <a:path w="5210" h="2680">
                <a:moveTo>
                  <a:pt x="13667" y="5953"/>
                </a:moveTo>
                <a:cubicBezTo>
                  <a:pt x="13941" y="5995"/>
                  <a:pt x="14213" y="6023"/>
                  <a:pt x="14436" y="5804"/>
                </a:cubicBezTo>
                <a:cubicBezTo>
                  <a:pt x="14609" y="5635"/>
                  <a:pt x="14662" y="5256"/>
                  <a:pt x="14511" y="5060"/>
                </a:cubicBezTo>
                <a:cubicBezTo>
                  <a:pt x="14336" y="4833"/>
                  <a:pt x="13966" y="4742"/>
                  <a:pt x="13692" y="4787"/>
                </a:cubicBezTo>
                <a:cubicBezTo>
                  <a:pt x="13463" y="4825"/>
                  <a:pt x="13355" y="5107"/>
                  <a:pt x="13345" y="5308"/>
                </a:cubicBezTo>
                <a:cubicBezTo>
                  <a:pt x="13330" y="5598"/>
                  <a:pt x="13421" y="5955"/>
                  <a:pt x="13767" y="5978"/>
                </a:cubicBezTo>
                <a:cubicBezTo>
                  <a:pt x="13833" y="5961"/>
                  <a:pt x="13899" y="5945"/>
                  <a:pt x="13965" y="5928"/>
                </a:cubicBezTo>
              </a:path>
              <a:path w="5210" h="2680">
                <a:moveTo>
                  <a:pt x="12923" y="5730"/>
                </a:moveTo>
                <a:cubicBezTo>
                  <a:pt x="12923" y="5672"/>
                  <a:pt x="12923" y="5614"/>
                  <a:pt x="12923" y="5556"/>
                </a:cubicBezTo>
                <a:cubicBezTo>
                  <a:pt x="13006" y="5556"/>
                  <a:pt x="13088" y="5556"/>
                  <a:pt x="13171" y="5556"/>
                </a:cubicBezTo>
                <a:cubicBezTo>
                  <a:pt x="13078" y="5566"/>
                  <a:pt x="12991" y="5576"/>
                  <a:pt x="12898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86040" y="2724120"/>
            <a:ext cx="71640" cy="88920"/>
          </a:xfrm>
          <a:custGeom>
            <a:avLst/>
            <a:gdLst/>
            <a:ahLst/>
            <a:rect l="l" t="t" r="r" b="b"/>
            <a:pathLst>
              <a:path w="200" h="249">
                <a:moveTo>
                  <a:pt x="7739" y="7615"/>
                </a:moveTo>
                <a:cubicBezTo>
                  <a:pt x="7829" y="7585"/>
                  <a:pt x="7869" y="7573"/>
                  <a:pt x="7938" y="7565"/>
                </a:cubicBezTo>
              </a:path>
              <a:path w="200" h="249">
                <a:moveTo>
                  <a:pt x="7739" y="7813"/>
                </a:moveTo>
                <a:cubicBezTo>
                  <a:pt x="7831" y="7791"/>
                  <a:pt x="7856" y="7785"/>
                  <a:pt x="7913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06800" y="2482920"/>
            <a:ext cx="250920" cy="509400"/>
          </a:xfrm>
          <a:custGeom>
            <a:avLst/>
            <a:gdLst/>
            <a:ahLst/>
            <a:rect l="l" t="t" r="r" b="b"/>
            <a:pathLst>
              <a:path w="696" h="1415">
                <a:moveTo>
                  <a:pt x="8855" y="6945"/>
                </a:moveTo>
                <a:cubicBezTo>
                  <a:pt x="9029" y="7108"/>
                  <a:pt x="9035" y="7220"/>
                  <a:pt x="8781" y="7342"/>
                </a:cubicBezTo>
                <a:cubicBezTo>
                  <a:pt x="8633" y="7413"/>
                  <a:pt x="8642" y="7367"/>
                  <a:pt x="8632" y="7268"/>
                </a:cubicBezTo>
                <a:cubicBezTo>
                  <a:pt x="8810" y="7203"/>
                  <a:pt x="8838" y="7227"/>
                  <a:pt x="8954" y="7367"/>
                </a:cubicBezTo>
              </a:path>
              <a:path w="696" h="1415">
                <a:moveTo>
                  <a:pt x="9327" y="6896"/>
                </a:moveTo>
                <a:cubicBezTo>
                  <a:pt x="9241" y="6906"/>
                  <a:pt x="9124" y="6931"/>
                  <a:pt x="9079" y="7020"/>
                </a:cubicBezTo>
                <a:cubicBezTo>
                  <a:pt x="9079" y="7036"/>
                  <a:pt x="9079" y="7053"/>
                  <a:pt x="9079" y="7069"/>
                </a:cubicBezTo>
                <a:cubicBezTo>
                  <a:pt x="9197" y="7134"/>
                  <a:pt x="9286" y="7171"/>
                  <a:pt x="9327" y="7293"/>
                </a:cubicBezTo>
                <a:cubicBezTo>
                  <a:pt x="9184" y="7292"/>
                  <a:pt x="9108" y="7193"/>
                  <a:pt x="9227" y="7045"/>
                </a:cubicBezTo>
                <a:cubicBezTo>
                  <a:pt x="9252" y="7028"/>
                  <a:pt x="9277" y="7012"/>
                  <a:pt x="9302" y="6995"/>
                </a:cubicBezTo>
              </a:path>
              <a:path w="696" h="1415">
                <a:moveTo>
                  <a:pt x="8706" y="7714"/>
                </a:moveTo>
                <a:cubicBezTo>
                  <a:pt x="8911" y="7692"/>
                  <a:pt x="9079" y="7600"/>
                  <a:pt x="9277" y="7541"/>
                </a:cubicBezTo>
                <a:cubicBezTo>
                  <a:pt x="9285" y="7541"/>
                  <a:pt x="9294" y="7541"/>
                  <a:pt x="9302" y="7541"/>
                </a:cubicBezTo>
              </a:path>
              <a:path w="696" h="1415">
                <a:moveTo>
                  <a:pt x="8905" y="7987"/>
                </a:moveTo>
                <a:cubicBezTo>
                  <a:pt x="9001" y="7939"/>
                  <a:pt x="9032" y="7922"/>
                  <a:pt x="9103" y="7962"/>
                </a:cubicBezTo>
                <a:cubicBezTo>
                  <a:pt x="9181" y="8143"/>
                  <a:pt x="9144" y="8282"/>
                  <a:pt x="8905" y="8310"/>
                </a:cubicBezTo>
                <a:cubicBezTo>
                  <a:pt x="8872" y="8302"/>
                  <a:pt x="8839" y="8293"/>
                  <a:pt x="8806" y="8285"/>
                </a:cubicBezTo>
                <a:cubicBezTo>
                  <a:pt x="8860" y="8122"/>
                  <a:pt x="9008" y="8099"/>
                  <a:pt x="9178" y="8111"/>
                </a:cubicBezTo>
                <a:cubicBezTo>
                  <a:pt x="9260" y="8132"/>
                  <a:pt x="9293" y="8123"/>
                  <a:pt x="9277" y="81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10000" y="2705040"/>
            <a:ext cx="125280" cy="100080"/>
          </a:xfrm>
          <a:custGeom>
            <a:avLst/>
            <a:gdLst/>
            <a:ahLst/>
            <a:rect l="l" t="t" r="r" b="b"/>
            <a:pathLst>
              <a:path w="349" h="274">
                <a:moveTo>
                  <a:pt x="9748" y="7541"/>
                </a:moveTo>
                <a:cubicBezTo>
                  <a:pt x="9865" y="7533"/>
                  <a:pt x="9979" y="7522"/>
                  <a:pt x="10096" y="7516"/>
                </a:cubicBezTo>
              </a:path>
              <a:path w="349" h="274">
                <a:moveTo>
                  <a:pt x="9773" y="7789"/>
                </a:moveTo>
                <a:cubicBezTo>
                  <a:pt x="9823" y="7781"/>
                  <a:pt x="9872" y="7772"/>
                  <a:pt x="9922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57760" y="2581200"/>
            <a:ext cx="206280" cy="285840"/>
          </a:xfrm>
          <a:custGeom>
            <a:avLst/>
            <a:gdLst/>
            <a:ahLst/>
            <a:rect l="l" t="t" r="r" b="b"/>
            <a:pathLst>
              <a:path w="571" h="794">
                <a:moveTo>
                  <a:pt x="10716" y="7268"/>
                </a:moveTo>
                <a:cubicBezTo>
                  <a:pt x="10753" y="7470"/>
                  <a:pt x="10740" y="7680"/>
                  <a:pt x="10740" y="7888"/>
                </a:cubicBezTo>
                <a:cubicBezTo>
                  <a:pt x="10740" y="7905"/>
                  <a:pt x="10740" y="7921"/>
                  <a:pt x="10740" y="7938"/>
                </a:cubicBezTo>
              </a:path>
              <a:path w="571" h="794">
                <a:moveTo>
                  <a:pt x="11013" y="7441"/>
                </a:moveTo>
                <a:cubicBezTo>
                  <a:pt x="11008" y="7510"/>
                  <a:pt x="10954" y="7648"/>
                  <a:pt x="11063" y="7665"/>
                </a:cubicBezTo>
                <a:cubicBezTo>
                  <a:pt x="11183" y="7665"/>
                  <a:pt x="11220" y="7667"/>
                  <a:pt x="11286" y="7615"/>
                </a:cubicBezTo>
              </a:path>
              <a:path w="571" h="794">
                <a:moveTo>
                  <a:pt x="11261" y="7169"/>
                </a:moveTo>
                <a:cubicBezTo>
                  <a:pt x="11236" y="7433"/>
                  <a:pt x="11223" y="7697"/>
                  <a:pt x="11212" y="79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7000" y="2197080"/>
            <a:ext cx="347760" cy="276120"/>
          </a:xfrm>
          <a:custGeom>
            <a:avLst/>
            <a:gdLst/>
            <a:ahLst/>
            <a:rect l="l" t="t" r="r" b="b"/>
            <a:pathLst>
              <a:path w="969" h="770">
                <a:moveTo>
                  <a:pt x="6672" y="6102"/>
                </a:moveTo>
                <a:cubicBezTo>
                  <a:pt x="6583" y="6316"/>
                  <a:pt x="6510" y="6571"/>
                  <a:pt x="6648" y="6796"/>
                </a:cubicBezTo>
                <a:cubicBezTo>
                  <a:pt x="6673" y="6813"/>
                  <a:pt x="6697" y="6829"/>
                  <a:pt x="6722" y="6846"/>
                </a:cubicBezTo>
              </a:path>
              <a:path w="969" h="770">
                <a:moveTo>
                  <a:pt x="6846" y="6424"/>
                </a:moveTo>
                <a:cubicBezTo>
                  <a:pt x="6943" y="6431"/>
                  <a:pt x="7077" y="6408"/>
                  <a:pt x="7094" y="6524"/>
                </a:cubicBezTo>
                <a:cubicBezTo>
                  <a:pt x="7108" y="6619"/>
                  <a:pt x="7081" y="6704"/>
                  <a:pt x="7069" y="6796"/>
                </a:cubicBezTo>
              </a:path>
              <a:path w="969" h="770">
                <a:moveTo>
                  <a:pt x="7218" y="6127"/>
                </a:moveTo>
                <a:cubicBezTo>
                  <a:pt x="7420" y="6280"/>
                  <a:pt x="7645" y="6461"/>
                  <a:pt x="7491" y="6747"/>
                </a:cubicBezTo>
                <a:cubicBezTo>
                  <a:pt x="7450" y="6788"/>
                  <a:pt x="7408" y="6830"/>
                  <a:pt x="7367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55920" y="4991040"/>
            <a:ext cx="633240" cy="331920"/>
          </a:xfrm>
          <a:custGeom>
            <a:avLst/>
            <a:gdLst/>
            <a:ahLst/>
            <a:rect l="l" t="t" r="r" b="b"/>
            <a:pathLst>
              <a:path w="1762" h="919">
                <a:moveTo>
                  <a:pt x="6821" y="14486"/>
                </a:moveTo>
                <a:cubicBezTo>
                  <a:pt x="7010" y="14456"/>
                  <a:pt x="7178" y="14459"/>
                  <a:pt x="7367" y="14486"/>
                </a:cubicBezTo>
              </a:path>
              <a:path w="1762" h="919">
                <a:moveTo>
                  <a:pt x="7813" y="14089"/>
                </a:moveTo>
                <a:cubicBezTo>
                  <a:pt x="7822" y="14326"/>
                  <a:pt x="7856" y="14550"/>
                  <a:pt x="7838" y="14784"/>
                </a:cubicBezTo>
              </a:path>
              <a:path w="1762" h="919">
                <a:moveTo>
                  <a:pt x="8434" y="13915"/>
                </a:moveTo>
                <a:cubicBezTo>
                  <a:pt x="8271" y="13976"/>
                  <a:pt x="8210" y="14028"/>
                  <a:pt x="8136" y="14188"/>
                </a:cubicBezTo>
                <a:cubicBezTo>
                  <a:pt x="8266" y="14228"/>
                  <a:pt x="8541" y="14232"/>
                  <a:pt x="8582" y="14412"/>
                </a:cubicBezTo>
                <a:cubicBezTo>
                  <a:pt x="8559" y="14552"/>
                  <a:pt x="8558" y="14596"/>
                  <a:pt x="8458" y="14635"/>
                </a:cubicBezTo>
                <a:cubicBezTo>
                  <a:pt x="8178" y="14522"/>
                  <a:pt x="8246" y="14348"/>
                  <a:pt x="8359" y="14064"/>
                </a:cubicBezTo>
                <a:cubicBezTo>
                  <a:pt x="8436" y="13870"/>
                  <a:pt x="8491" y="13866"/>
                  <a:pt x="8285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 + (8 – 4) + 8 x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missing num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, 8, 16, 32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x (4 + 1) - 1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5080" y="1803240"/>
            <a:ext cx="635040" cy="206640"/>
          </a:xfrm>
          <a:custGeom>
            <a:avLst/>
            <a:gdLst/>
            <a:ahLst/>
            <a:rect l="l" t="t" r="r" b="b"/>
            <a:pathLst>
              <a:path w="1762" h="571">
                <a:moveTo>
                  <a:pt x="8930" y="5110"/>
                </a:moveTo>
                <a:cubicBezTo>
                  <a:pt x="8930" y="5271"/>
                  <a:pt x="8932" y="5423"/>
                  <a:pt x="8905" y="5581"/>
                </a:cubicBezTo>
              </a:path>
              <a:path w="1762" h="571">
                <a:moveTo>
                  <a:pt x="9550" y="5011"/>
                </a:moveTo>
                <a:cubicBezTo>
                  <a:pt x="9464" y="5078"/>
                  <a:pt x="9450" y="5051"/>
                  <a:pt x="9376" y="5159"/>
                </a:cubicBezTo>
                <a:cubicBezTo>
                  <a:pt x="9368" y="5176"/>
                  <a:pt x="9359" y="5192"/>
                  <a:pt x="9351" y="5209"/>
                </a:cubicBezTo>
                <a:cubicBezTo>
                  <a:pt x="9468" y="5240"/>
                  <a:pt x="9691" y="5232"/>
                  <a:pt x="9773" y="5333"/>
                </a:cubicBezTo>
                <a:cubicBezTo>
                  <a:pt x="9860" y="5439"/>
                  <a:pt x="9429" y="5477"/>
                  <a:pt x="9401" y="5482"/>
                </a:cubicBezTo>
              </a:path>
              <a:path w="1762" h="571">
                <a:moveTo>
                  <a:pt x="10319" y="5135"/>
                </a:moveTo>
                <a:cubicBezTo>
                  <a:pt x="10381" y="5245"/>
                  <a:pt x="10406" y="5355"/>
                  <a:pt x="10418" y="5482"/>
                </a:cubicBezTo>
              </a:path>
              <a:path w="1762" h="571">
                <a:moveTo>
                  <a:pt x="10195" y="5283"/>
                </a:moveTo>
                <a:cubicBezTo>
                  <a:pt x="10352" y="5299"/>
                  <a:pt x="10505" y="5283"/>
                  <a:pt x="10666" y="52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24240" y="1704960"/>
            <a:ext cx="169920" cy="169920"/>
          </a:xfrm>
          <a:custGeom>
            <a:avLst/>
            <a:gdLst/>
            <a:ahLst/>
            <a:rect l="l" t="t" r="r" b="b"/>
            <a:pathLst>
              <a:path w="472" h="472">
                <a:moveTo>
                  <a:pt x="11807" y="4862"/>
                </a:moveTo>
                <a:cubicBezTo>
                  <a:pt x="11781" y="4969"/>
                  <a:pt x="11751" y="5077"/>
                  <a:pt x="11733" y="5184"/>
                </a:cubicBezTo>
                <a:cubicBezTo>
                  <a:pt x="11902" y="5177"/>
                  <a:pt x="12041" y="5153"/>
                  <a:pt x="12204" y="5110"/>
                </a:cubicBezTo>
              </a:path>
              <a:path w="472" h="472">
                <a:moveTo>
                  <a:pt x="12179" y="4738"/>
                </a:moveTo>
                <a:cubicBezTo>
                  <a:pt x="12155" y="4977"/>
                  <a:pt x="12147" y="5051"/>
                  <a:pt x="12154" y="52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33920" y="1812960"/>
            <a:ext cx="1903320" cy="500040"/>
          </a:xfrm>
          <a:custGeom>
            <a:avLst/>
            <a:gdLst/>
            <a:ahLst/>
            <a:rect l="l" t="t" r="r" b="b"/>
            <a:pathLst>
              <a:path w="5284" h="1390">
                <a:moveTo>
                  <a:pt x="12973" y="5110"/>
                </a:moveTo>
                <a:cubicBezTo>
                  <a:pt x="12973" y="5227"/>
                  <a:pt x="12971" y="5261"/>
                  <a:pt x="12998" y="5333"/>
                </a:cubicBezTo>
              </a:path>
              <a:path w="5284" h="1390">
                <a:moveTo>
                  <a:pt x="12874" y="5283"/>
                </a:moveTo>
                <a:cubicBezTo>
                  <a:pt x="12932" y="5267"/>
                  <a:pt x="12989" y="5250"/>
                  <a:pt x="13047" y="5234"/>
                </a:cubicBezTo>
              </a:path>
              <a:path w="5284" h="1390">
                <a:moveTo>
                  <a:pt x="13841" y="5085"/>
                </a:moveTo>
                <a:cubicBezTo>
                  <a:pt x="13710" y="5052"/>
                  <a:pt x="13611" y="5042"/>
                  <a:pt x="13519" y="5135"/>
                </a:cubicBezTo>
                <a:cubicBezTo>
                  <a:pt x="13569" y="5192"/>
                  <a:pt x="13870" y="5405"/>
                  <a:pt x="13717" y="5482"/>
                </a:cubicBezTo>
                <a:cubicBezTo>
                  <a:pt x="13468" y="5607"/>
                  <a:pt x="13717" y="5219"/>
                  <a:pt x="13742" y="5184"/>
                </a:cubicBezTo>
              </a:path>
              <a:path w="5284" h="1390">
                <a:moveTo>
                  <a:pt x="14188" y="5159"/>
                </a:moveTo>
                <a:cubicBezTo>
                  <a:pt x="14229" y="5248"/>
                  <a:pt x="14260" y="5297"/>
                  <a:pt x="14337" y="5358"/>
                </a:cubicBezTo>
              </a:path>
              <a:path w="5284" h="1390">
                <a:moveTo>
                  <a:pt x="14436" y="5135"/>
                </a:moveTo>
                <a:cubicBezTo>
                  <a:pt x="14343" y="5207"/>
                  <a:pt x="14303" y="5280"/>
                  <a:pt x="14238" y="5383"/>
                </a:cubicBezTo>
              </a:path>
              <a:path w="5284" h="1390">
                <a:moveTo>
                  <a:pt x="14660" y="5035"/>
                </a:moveTo>
                <a:cubicBezTo>
                  <a:pt x="14676" y="5109"/>
                  <a:pt x="14656" y="5320"/>
                  <a:pt x="14709" y="5358"/>
                </a:cubicBezTo>
                <a:cubicBezTo>
                  <a:pt x="14820" y="5438"/>
                  <a:pt x="14920" y="5334"/>
                  <a:pt x="15007" y="5283"/>
                </a:cubicBezTo>
                <a:cubicBezTo>
                  <a:pt x="15007" y="5204"/>
                  <a:pt x="14906" y="5320"/>
                  <a:pt x="14858" y="5383"/>
                </a:cubicBezTo>
              </a:path>
              <a:path w="5284" h="1390">
                <a:moveTo>
                  <a:pt x="13866" y="5556"/>
                </a:moveTo>
                <a:cubicBezTo>
                  <a:pt x="13846" y="5674"/>
                  <a:pt x="13852" y="5695"/>
                  <a:pt x="13816" y="5755"/>
                </a:cubicBezTo>
                <a:cubicBezTo>
                  <a:pt x="14060" y="5755"/>
                  <a:pt x="14295" y="5746"/>
                  <a:pt x="14536" y="5755"/>
                </a:cubicBezTo>
                <a:cubicBezTo>
                  <a:pt x="14728" y="5762"/>
                  <a:pt x="14726" y="5796"/>
                  <a:pt x="14734" y="5581"/>
                </a:cubicBezTo>
                <a:cubicBezTo>
                  <a:pt x="14734" y="5564"/>
                  <a:pt x="14734" y="5548"/>
                  <a:pt x="14734" y="5531"/>
                </a:cubicBezTo>
              </a:path>
              <a:path w="5284" h="1390">
                <a:moveTo>
                  <a:pt x="13791" y="6052"/>
                </a:moveTo>
                <a:cubicBezTo>
                  <a:pt x="13740" y="6273"/>
                  <a:pt x="13812" y="6251"/>
                  <a:pt x="13990" y="6152"/>
                </a:cubicBezTo>
              </a:path>
              <a:path w="5284" h="1390">
                <a:moveTo>
                  <a:pt x="14015" y="6003"/>
                </a:moveTo>
                <a:cubicBezTo>
                  <a:pt x="13969" y="6118"/>
                  <a:pt x="13959" y="6220"/>
                  <a:pt x="13940" y="6350"/>
                </a:cubicBezTo>
              </a:path>
              <a:path w="5284" h="1390">
                <a:moveTo>
                  <a:pt x="14238" y="6028"/>
                </a:moveTo>
                <a:cubicBezTo>
                  <a:pt x="14182" y="6125"/>
                  <a:pt x="14369" y="6242"/>
                  <a:pt x="14337" y="6300"/>
                </a:cubicBezTo>
                <a:cubicBezTo>
                  <a:pt x="14250" y="6344"/>
                  <a:pt x="14226" y="6370"/>
                  <a:pt x="14188" y="6300"/>
                </a:cubicBezTo>
                <a:cubicBezTo>
                  <a:pt x="14225" y="6214"/>
                  <a:pt x="14268" y="6135"/>
                  <a:pt x="14312" y="6052"/>
                </a:cubicBezTo>
              </a:path>
              <a:path w="5284" h="1390">
                <a:moveTo>
                  <a:pt x="15453" y="6003"/>
                </a:moveTo>
                <a:cubicBezTo>
                  <a:pt x="15556" y="5975"/>
                  <a:pt x="15666" y="5967"/>
                  <a:pt x="15776" y="5953"/>
                </a:cubicBezTo>
              </a:path>
              <a:path w="5284" h="1390">
                <a:moveTo>
                  <a:pt x="15528" y="6127"/>
                </a:moveTo>
                <a:cubicBezTo>
                  <a:pt x="15628" y="6118"/>
                  <a:pt x="15726" y="6097"/>
                  <a:pt x="15825" y="6077"/>
                </a:cubicBezTo>
              </a:path>
              <a:path w="5284" h="1390">
                <a:moveTo>
                  <a:pt x="16694" y="5680"/>
                </a:moveTo>
                <a:cubicBezTo>
                  <a:pt x="16740" y="5806"/>
                  <a:pt x="16669" y="5829"/>
                  <a:pt x="16644" y="5953"/>
                </a:cubicBezTo>
                <a:cubicBezTo>
                  <a:pt x="16628" y="6031"/>
                  <a:pt x="16605" y="6230"/>
                  <a:pt x="16718" y="6251"/>
                </a:cubicBezTo>
                <a:cubicBezTo>
                  <a:pt x="16866" y="6279"/>
                  <a:pt x="16990" y="6164"/>
                  <a:pt x="17066" y="6052"/>
                </a:cubicBezTo>
                <a:cubicBezTo>
                  <a:pt x="17074" y="6036"/>
                  <a:pt x="17082" y="6019"/>
                  <a:pt x="17090" y="6003"/>
                </a:cubicBezTo>
                <a:cubicBezTo>
                  <a:pt x="16922" y="6002"/>
                  <a:pt x="16905" y="6056"/>
                  <a:pt x="16892" y="6226"/>
                </a:cubicBezTo>
              </a:path>
              <a:path w="5284" h="1390">
                <a:moveTo>
                  <a:pt x="17264" y="5581"/>
                </a:moveTo>
                <a:cubicBezTo>
                  <a:pt x="17323" y="5564"/>
                  <a:pt x="17409" y="5566"/>
                  <a:pt x="17487" y="5556"/>
                </a:cubicBezTo>
                <a:cubicBezTo>
                  <a:pt x="17481" y="5755"/>
                  <a:pt x="17475" y="5938"/>
                  <a:pt x="17413" y="6127"/>
                </a:cubicBezTo>
              </a:path>
              <a:path w="5284" h="1390">
                <a:moveTo>
                  <a:pt x="16619" y="6325"/>
                </a:moveTo>
                <a:cubicBezTo>
                  <a:pt x="16906" y="6425"/>
                  <a:pt x="17111" y="6443"/>
                  <a:pt x="17413" y="6375"/>
                </a:cubicBezTo>
                <a:cubicBezTo>
                  <a:pt x="17705" y="6310"/>
                  <a:pt x="18075" y="6163"/>
                  <a:pt x="18157" y="5829"/>
                </a:cubicBezTo>
                <a:cubicBezTo>
                  <a:pt x="18249" y="5457"/>
                  <a:pt x="17978" y="5232"/>
                  <a:pt x="17661" y="5135"/>
                </a:cubicBezTo>
                <a:cubicBezTo>
                  <a:pt x="17239" y="5006"/>
                  <a:pt x="16917" y="5149"/>
                  <a:pt x="16644" y="5482"/>
                </a:cubicBezTo>
                <a:cubicBezTo>
                  <a:pt x="16310" y="5890"/>
                  <a:pt x="16365" y="6045"/>
                  <a:pt x="16768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62200" y="2143080"/>
            <a:ext cx="216000" cy="179280"/>
          </a:xfrm>
          <a:custGeom>
            <a:avLst/>
            <a:gdLst/>
            <a:ahLst/>
            <a:rect l="l" t="t" r="r" b="b"/>
            <a:pathLst>
              <a:path w="596" h="497">
                <a:moveTo>
                  <a:pt x="9996" y="6003"/>
                </a:moveTo>
                <a:cubicBezTo>
                  <a:pt x="9969" y="6158"/>
                  <a:pt x="9942" y="6300"/>
                  <a:pt x="9897" y="6449"/>
                </a:cubicBezTo>
              </a:path>
              <a:path w="596" h="497">
                <a:moveTo>
                  <a:pt x="10368" y="5953"/>
                </a:moveTo>
                <a:cubicBezTo>
                  <a:pt x="10263" y="6012"/>
                  <a:pt x="10192" y="6018"/>
                  <a:pt x="10244" y="6152"/>
                </a:cubicBezTo>
                <a:cubicBezTo>
                  <a:pt x="10278" y="6239"/>
                  <a:pt x="10466" y="6120"/>
                  <a:pt x="10492" y="6276"/>
                </a:cubicBezTo>
                <a:cubicBezTo>
                  <a:pt x="10532" y="6514"/>
                  <a:pt x="10224" y="6397"/>
                  <a:pt x="10145" y="63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67120" y="2224080"/>
            <a:ext cx="61920" cy="44280"/>
          </a:xfrm>
          <a:custGeom>
            <a:avLst/>
            <a:gdLst/>
            <a:ahLst/>
            <a:rect l="l" t="t" r="r" b="b"/>
            <a:pathLst>
              <a:path w="175" h="125">
                <a:moveTo>
                  <a:pt x="10889" y="6176"/>
                </a:moveTo>
                <a:cubicBezTo>
                  <a:pt x="10897" y="6217"/>
                  <a:pt x="10906" y="6259"/>
                  <a:pt x="10914" y="6300"/>
                </a:cubicBezTo>
              </a:path>
              <a:path w="175" h="125">
                <a:moveTo>
                  <a:pt x="10740" y="6201"/>
                </a:moveTo>
                <a:cubicBezTo>
                  <a:pt x="10798" y="6201"/>
                  <a:pt x="10856" y="6201"/>
                  <a:pt x="10914" y="62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52960" y="2125800"/>
            <a:ext cx="88920" cy="179280"/>
          </a:xfrm>
          <a:custGeom>
            <a:avLst/>
            <a:gdLst/>
            <a:ahLst/>
            <a:rect l="l" t="t" r="r" b="b"/>
            <a:pathLst>
              <a:path w="249" h="497">
                <a:moveTo>
                  <a:pt x="11559" y="6102"/>
                </a:moveTo>
                <a:cubicBezTo>
                  <a:pt x="11484" y="6252"/>
                  <a:pt x="11714" y="6180"/>
                  <a:pt x="11782" y="6176"/>
                </a:cubicBezTo>
              </a:path>
              <a:path w="249" h="497">
                <a:moveTo>
                  <a:pt x="11733" y="5904"/>
                </a:moveTo>
                <a:cubicBezTo>
                  <a:pt x="11740" y="6070"/>
                  <a:pt x="11751" y="6234"/>
                  <a:pt x="11757" y="64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56080" y="2170080"/>
            <a:ext cx="98280" cy="81000"/>
          </a:xfrm>
          <a:custGeom>
            <a:avLst/>
            <a:gdLst/>
            <a:ahLst/>
            <a:rect l="l" t="t" r="r" b="b"/>
            <a:pathLst>
              <a:path w="273" h="224">
                <a:moveTo>
                  <a:pt x="12576" y="6028"/>
                </a:moveTo>
                <a:cubicBezTo>
                  <a:pt x="12559" y="6107"/>
                  <a:pt x="12551" y="6166"/>
                  <a:pt x="12551" y="6251"/>
                </a:cubicBezTo>
              </a:path>
              <a:path w="273" h="224">
                <a:moveTo>
                  <a:pt x="12378" y="6102"/>
                </a:moveTo>
                <a:cubicBezTo>
                  <a:pt x="12517" y="6126"/>
                  <a:pt x="12558" y="6134"/>
                  <a:pt x="12650" y="61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38880" y="2911320"/>
            <a:ext cx="401400" cy="374760"/>
          </a:xfrm>
          <a:custGeom>
            <a:avLst/>
            <a:gdLst/>
            <a:ahLst/>
            <a:rect l="l" t="t" r="r" b="b"/>
            <a:pathLst>
              <a:path w="1117" h="1043">
                <a:moveTo>
                  <a:pt x="15354" y="8409"/>
                </a:moveTo>
                <a:cubicBezTo>
                  <a:pt x="15250" y="8592"/>
                  <a:pt x="15027" y="8851"/>
                  <a:pt x="15131" y="9079"/>
                </a:cubicBezTo>
                <a:cubicBezTo>
                  <a:pt x="15156" y="9095"/>
                  <a:pt x="15180" y="9112"/>
                  <a:pt x="15205" y="9128"/>
                </a:cubicBezTo>
                <a:cubicBezTo>
                  <a:pt x="15431" y="9020"/>
                  <a:pt x="15578" y="8962"/>
                  <a:pt x="15577" y="8706"/>
                </a:cubicBezTo>
                <a:cubicBezTo>
                  <a:pt x="15394" y="8763"/>
                  <a:pt x="15390" y="8841"/>
                  <a:pt x="15379" y="9029"/>
                </a:cubicBezTo>
              </a:path>
              <a:path w="1117" h="1043">
                <a:moveTo>
                  <a:pt x="15825" y="8384"/>
                </a:moveTo>
                <a:cubicBezTo>
                  <a:pt x="15849" y="8445"/>
                  <a:pt x="15860" y="8565"/>
                  <a:pt x="15900" y="8582"/>
                </a:cubicBezTo>
                <a:cubicBezTo>
                  <a:pt x="16029" y="8634"/>
                  <a:pt x="16076" y="8650"/>
                  <a:pt x="16173" y="8607"/>
                </a:cubicBezTo>
              </a:path>
              <a:path w="1117" h="1043">
                <a:moveTo>
                  <a:pt x="16222" y="8086"/>
                </a:moveTo>
                <a:cubicBezTo>
                  <a:pt x="16194" y="8334"/>
                  <a:pt x="16197" y="8579"/>
                  <a:pt x="16197" y="8830"/>
                </a:cubicBezTo>
                <a:cubicBezTo>
                  <a:pt x="16197" y="8847"/>
                  <a:pt x="16197" y="8863"/>
                  <a:pt x="16197" y="88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01960" y="4554360"/>
            <a:ext cx="1162080" cy="366840"/>
          </a:xfrm>
          <a:custGeom>
            <a:avLst/>
            <a:gdLst/>
            <a:ahLst/>
            <a:rect l="l" t="t" r="r" b="b"/>
            <a:pathLst>
              <a:path w="3225" h="1018">
                <a:moveTo>
                  <a:pt x="11286" y="12650"/>
                </a:moveTo>
                <a:cubicBezTo>
                  <a:pt x="11173" y="12665"/>
                  <a:pt x="10963" y="12638"/>
                  <a:pt x="10914" y="12774"/>
                </a:cubicBezTo>
                <a:cubicBezTo>
                  <a:pt x="10902" y="12808"/>
                  <a:pt x="10914" y="12883"/>
                  <a:pt x="10914" y="12923"/>
                </a:cubicBezTo>
                <a:cubicBezTo>
                  <a:pt x="10961" y="12916"/>
                  <a:pt x="11181" y="12819"/>
                  <a:pt x="11212" y="12898"/>
                </a:cubicBezTo>
                <a:cubicBezTo>
                  <a:pt x="11279" y="13068"/>
                  <a:pt x="11050" y="13054"/>
                  <a:pt x="10964" y="13072"/>
                </a:cubicBezTo>
              </a:path>
              <a:path w="3225" h="1018">
                <a:moveTo>
                  <a:pt x="8062" y="12998"/>
                </a:moveTo>
                <a:cubicBezTo>
                  <a:pt x="8206" y="12967"/>
                  <a:pt x="8360" y="12944"/>
                  <a:pt x="8508" y="12923"/>
                </a:cubicBezTo>
                <a:cubicBezTo>
                  <a:pt x="8674" y="12899"/>
                  <a:pt x="8612" y="13174"/>
                  <a:pt x="8607" y="13246"/>
                </a:cubicBezTo>
                <a:cubicBezTo>
                  <a:pt x="8607" y="13262"/>
                  <a:pt x="8607" y="13279"/>
                  <a:pt x="8607" y="13295"/>
                </a:cubicBezTo>
              </a:path>
              <a:path w="3225" h="1018">
                <a:moveTo>
                  <a:pt x="9103" y="12824"/>
                </a:moveTo>
                <a:cubicBezTo>
                  <a:pt x="9184" y="12892"/>
                  <a:pt x="9260" y="12941"/>
                  <a:pt x="9351" y="12998"/>
                </a:cubicBezTo>
              </a:path>
              <a:path w="3225" h="1018">
                <a:moveTo>
                  <a:pt x="9302" y="12799"/>
                </a:moveTo>
                <a:cubicBezTo>
                  <a:pt x="9252" y="12948"/>
                  <a:pt x="9235" y="12997"/>
                  <a:pt x="9203" y="13097"/>
                </a:cubicBezTo>
              </a:path>
              <a:path w="3225" h="1018">
                <a:moveTo>
                  <a:pt x="8905" y="13469"/>
                </a:moveTo>
                <a:cubicBezTo>
                  <a:pt x="8947" y="13540"/>
                  <a:pt x="9000" y="13701"/>
                  <a:pt x="9103" y="13667"/>
                </a:cubicBezTo>
                <a:cubicBezTo>
                  <a:pt x="9448" y="13554"/>
                  <a:pt x="9770" y="13419"/>
                  <a:pt x="10145" y="13419"/>
                </a:cubicBezTo>
                <a:cubicBezTo>
                  <a:pt x="10158" y="13419"/>
                  <a:pt x="10630" y="13482"/>
                  <a:pt x="10616" y="13419"/>
                </a:cubicBezTo>
                <a:cubicBezTo>
                  <a:pt x="10595" y="13322"/>
                  <a:pt x="10550" y="13233"/>
                  <a:pt x="10542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46640" y="4973760"/>
            <a:ext cx="304560" cy="179280"/>
          </a:xfrm>
          <a:custGeom>
            <a:avLst/>
            <a:gdLst/>
            <a:ahLst/>
            <a:rect l="l" t="t" r="r" b="b"/>
            <a:pathLst>
              <a:path w="844" h="497">
                <a:moveTo>
                  <a:pt x="9599" y="13891"/>
                </a:moveTo>
                <a:cubicBezTo>
                  <a:pt x="9740" y="13867"/>
                  <a:pt x="9875" y="13825"/>
                  <a:pt x="9748" y="14015"/>
                </a:cubicBezTo>
                <a:cubicBezTo>
                  <a:pt x="9732" y="14031"/>
                  <a:pt x="9715" y="14048"/>
                  <a:pt x="9699" y="14064"/>
                </a:cubicBezTo>
                <a:cubicBezTo>
                  <a:pt x="9839" y="14034"/>
                  <a:pt x="10065" y="14052"/>
                  <a:pt x="9872" y="14238"/>
                </a:cubicBezTo>
                <a:cubicBezTo>
                  <a:pt x="9724" y="14381"/>
                  <a:pt x="9669" y="14316"/>
                  <a:pt x="9575" y="14213"/>
                </a:cubicBezTo>
              </a:path>
              <a:path w="844" h="497">
                <a:moveTo>
                  <a:pt x="10145" y="13841"/>
                </a:moveTo>
                <a:cubicBezTo>
                  <a:pt x="10145" y="14028"/>
                  <a:pt x="10223" y="13902"/>
                  <a:pt x="10368" y="13990"/>
                </a:cubicBezTo>
                <a:cubicBezTo>
                  <a:pt x="10485" y="14062"/>
                  <a:pt x="10391" y="14131"/>
                  <a:pt x="10344" y="14188"/>
                </a:cubicBezTo>
              </a:path>
              <a:path w="844" h="497">
                <a:moveTo>
                  <a:pt x="10170" y="13841"/>
                </a:moveTo>
                <a:cubicBezTo>
                  <a:pt x="10220" y="13833"/>
                  <a:pt x="10269" y="13824"/>
                  <a:pt x="10319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83040" y="5062680"/>
            <a:ext cx="88920" cy="9360"/>
          </a:xfrm>
          <a:custGeom>
            <a:avLst/>
            <a:gdLst/>
            <a:ahLst/>
            <a:rect l="l" t="t" r="r" b="b"/>
            <a:pathLst>
              <a:path w="249" h="26">
                <a:moveTo>
                  <a:pt x="11063" y="14089"/>
                </a:moveTo>
                <a:cubicBezTo>
                  <a:pt x="11186" y="14064"/>
                  <a:pt x="11227" y="14056"/>
                  <a:pt x="11311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32160" y="4956120"/>
            <a:ext cx="36720" cy="135000"/>
          </a:xfrm>
          <a:custGeom>
            <a:avLst/>
            <a:gdLst/>
            <a:ahLst/>
            <a:rect l="l" t="t" r="r" b="b"/>
            <a:pathLst>
              <a:path w="101" h="373">
                <a:moveTo>
                  <a:pt x="11757" y="13767"/>
                </a:moveTo>
                <a:cubicBezTo>
                  <a:pt x="11782" y="13892"/>
                  <a:pt x="11825" y="14010"/>
                  <a:pt x="11857" y="141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95880" y="4643280"/>
            <a:ext cx="204840" cy="447840"/>
          </a:xfrm>
          <a:custGeom>
            <a:avLst/>
            <a:gdLst/>
            <a:ahLst/>
            <a:rect l="l" t="t" r="r" b="b"/>
            <a:pathLst>
              <a:path w="572" h="1242">
                <a:moveTo>
                  <a:pt x="11931" y="12923"/>
                </a:moveTo>
                <a:cubicBezTo>
                  <a:pt x="12056" y="12923"/>
                  <a:pt x="12098" y="12923"/>
                  <a:pt x="12179" y="12898"/>
                </a:cubicBezTo>
              </a:path>
              <a:path w="572" h="1242">
                <a:moveTo>
                  <a:pt x="12179" y="13841"/>
                </a:moveTo>
                <a:cubicBezTo>
                  <a:pt x="12156" y="13974"/>
                  <a:pt x="12188" y="14328"/>
                  <a:pt x="12427" y="14089"/>
                </a:cubicBezTo>
                <a:cubicBezTo>
                  <a:pt x="12616" y="13900"/>
                  <a:pt x="12433" y="13856"/>
                  <a:pt x="12303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18000" y="4643280"/>
            <a:ext cx="36360" cy="81000"/>
          </a:xfrm>
          <a:custGeom>
            <a:avLst/>
            <a:gdLst/>
            <a:ahLst/>
            <a:rect l="l" t="t" r="r" b="b"/>
            <a:pathLst>
              <a:path w="100" h="225">
                <a:moveTo>
                  <a:pt x="12551" y="12898"/>
                </a:moveTo>
                <a:cubicBezTo>
                  <a:pt x="12613" y="13021"/>
                  <a:pt x="12629" y="13042"/>
                  <a:pt x="12650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53000" y="4589640"/>
            <a:ext cx="106200" cy="117360"/>
          </a:xfrm>
          <a:custGeom>
            <a:avLst/>
            <a:gdLst/>
            <a:ahLst/>
            <a:rect l="l" t="t" r="r" b="b"/>
            <a:pathLst>
              <a:path w="299" h="323">
                <a:moveTo>
                  <a:pt x="12973" y="12750"/>
                </a:moveTo>
                <a:cubicBezTo>
                  <a:pt x="12953" y="12838"/>
                  <a:pt x="12885" y="13182"/>
                  <a:pt x="13122" y="13047"/>
                </a:cubicBezTo>
                <a:cubicBezTo>
                  <a:pt x="13306" y="12942"/>
                  <a:pt x="13208" y="12882"/>
                  <a:pt x="13122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3946680"/>
            <a:ext cx="920520" cy="527040"/>
          </a:xfrm>
          <a:custGeom>
            <a:avLst/>
            <a:gdLst/>
            <a:ahLst/>
            <a:rect l="l" t="t" r="r" b="b"/>
            <a:pathLst>
              <a:path w="2556" h="1464">
                <a:moveTo>
                  <a:pt x="16371" y="11708"/>
                </a:moveTo>
                <a:cubicBezTo>
                  <a:pt x="16388" y="11675"/>
                  <a:pt x="16404" y="11642"/>
                  <a:pt x="16421" y="11609"/>
                </a:cubicBezTo>
                <a:cubicBezTo>
                  <a:pt x="16638" y="11674"/>
                  <a:pt x="16841" y="11894"/>
                  <a:pt x="16594" y="12129"/>
                </a:cubicBezTo>
                <a:cubicBezTo>
                  <a:pt x="16455" y="12176"/>
                  <a:pt x="16415" y="12194"/>
                  <a:pt x="16321" y="12154"/>
                </a:cubicBezTo>
                <a:cubicBezTo>
                  <a:pt x="16403" y="11926"/>
                  <a:pt x="16569" y="12019"/>
                  <a:pt x="16793" y="12080"/>
                </a:cubicBezTo>
              </a:path>
              <a:path w="2556" h="1464">
                <a:moveTo>
                  <a:pt x="16842" y="11683"/>
                </a:moveTo>
                <a:cubicBezTo>
                  <a:pt x="16962" y="11776"/>
                  <a:pt x="17207" y="11717"/>
                  <a:pt x="17314" y="11857"/>
                </a:cubicBezTo>
                <a:cubicBezTo>
                  <a:pt x="17457" y="12043"/>
                  <a:pt x="17241" y="12030"/>
                  <a:pt x="17165" y="12030"/>
                </a:cubicBezTo>
              </a:path>
              <a:path w="2556" h="1464">
                <a:moveTo>
                  <a:pt x="16991" y="11534"/>
                </a:moveTo>
                <a:cubicBezTo>
                  <a:pt x="17149" y="11495"/>
                  <a:pt x="17302" y="11464"/>
                  <a:pt x="17462" y="11435"/>
                </a:cubicBezTo>
              </a:path>
              <a:path w="2556" h="1464">
                <a:moveTo>
                  <a:pt x="16297" y="12427"/>
                </a:moveTo>
                <a:cubicBezTo>
                  <a:pt x="16763" y="12386"/>
                  <a:pt x="17256" y="12377"/>
                  <a:pt x="17661" y="12105"/>
                </a:cubicBezTo>
                <a:cubicBezTo>
                  <a:pt x="18080" y="11824"/>
                  <a:pt x="18148" y="11297"/>
                  <a:pt x="17636" y="11063"/>
                </a:cubicBezTo>
                <a:cubicBezTo>
                  <a:pt x="17029" y="10786"/>
                  <a:pt x="16377" y="10956"/>
                  <a:pt x="16123" y="11559"/>
                </a:cubicBezTo>
                <a:cubicBezTo>
                  <a:pt x="15862" y="12178"/>
                  <a:pt x="16263" y="12299"/>
                  <a:pt x="16743" y="12328"/>
                </a:cubicBezTo>
              </a:path>
              <a:path w="2556" h="1464">
                <a:moveTo>
                  <a:pt x="15478" y="12105"/>
                </a:moveTo>
                <a:cubicBezTo>
                  <a:pt x="15583" y="12049"/>
                  <a:pt x="15631" y="12038"/>
                  <a:pt x="15751" y="12030"/>
                </a:cubicBezTo>
              </a:path>
              <a:path w="2556" h="1464">
                <a:moveTo>
                  <a:pt x="15453" y="12229"/>
                </a:moveTo>
                <a:cubicBezTo>
                  <a:pt x="15503" y="12221"/>
                  <a:pt x="15552" y="12212"/>
                  <a:pt x="15602" y="122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missing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8, 50, ___, 7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the correct algebraic express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2 less than the number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) x – 5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.) 52 – x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.) x + 5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16280" y="1768320"/>
            <a:ext cx="500400" cy="347760"/>
          </a:xfrm>
          <a:custGeom>
            <a:avLst/>
            <a:gdLst/>
            <a:ahLst/>
            <a:rect l="l" t="t" r="r" b="b"/>
            <a:pathLst>
              <a:path w="1390" h="969">
                <a:moveTo>
                  <a:pt x="12973" y="5159"/>
                </a:moveTo>
                <a:cubicBezTo>
                  <a:pt x="12973" y="5118"/>
                  <a:pt x="12973" y="5076"/>
                  <a:pt x="12973" y="5035"/>
                </a:cubicBezTo>
                <a:cubicBezTo>
                  <a:pt x="12946" y="5226"/>
                  <a:pt x="12834" y="5390"/>
                  <a:pt x="12824" y="5606"/>
                </a:cubicBezTo>
                <a:cubicBezTo>
                  <a:pt x="12844" y="5768"/>
                  <a:pt x="12833" y="5803"/>
                  <a:pt x="12898" y="5879"/>
                </a:cubicBezTo>
                <a:cubicBezTo>
                  <a:pt x="13049" y="5821"/>
                  <a:pt x="13364" y="5666"/>
                  <a:pt x="13295" y="5432"/>
                </a:cubicBezTo>
                <a:cubicBezTo>
                  <a:pt x="13270" y="5424"/>
                  <a:pt x="13246" y="5415"/>
                  <a:pt x="13221" y="5407"/>
                </a:cubicBezTo>
                <a:cubicBezTo>
                  <a:pt x="13116" y="5565"/>
                  <a:pt x="13082" y="5642"/>
                  <a:pt x="13221" y="5779"/>
                </a:cubicBezTo>
              </a:path>
              <a:path w="1390" h="969">
                <a:moveTo>
                  <a:pt x="13643" y="4986"/>
                </a:moveTo>
                <a:cubicBezTo>
                  <a:pt x="13721" y="4854"/>
                  <a:pt x="13904" y="4916"/>
                  <a:pt x="13990" y="5035"/>
                </a:cubicBezTo>
                <a:cubicBezTo>
                  <a:pt x="14146" y="5252"/>
                  <a:pt x="13862" y="5563"/>
                  <a:pt x="13643" y="5581"/>
                </a:cubicBezTo>
                <a:cubicBezTo>
                  <a:pt x="13626" y="5564"/>
                  <a:pt x="13610" y="5548"/>
                  <a:pt x="13593" y="5531"/>
                </a:cubicBezTo>
                <a:cubicBezTo>
                  <a:pt x="13672" y="5373"/>
                  <a:pt x="13775" y="5223"/>
                  <a:pt x="13990" y="5333"/>
                </a:cubicBezTo>
                <a:cubicBezTo>
                  <a:pt x="14132" y="5405"/>
                  <a:pt x="14169" y="5574"/>
                  <a:pt x="14213" y="57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4760" y="3911760"/>
            <a:ext cx="696960" cy="625320"/>
          </a:xfrm>
          <a:custGeom>
            <a:avLst/>
            <a:gdLst/>
            <a:ahLst/>
            <a:rect l="l" t="t" r="r" b="b"/>
            <a:pathLst>
              <a:path w="1936" h="1738">
                <a:moveTo>
                  <a:pt x="1116" y="12502"/>
                </a:moveTo>
                <a:cubicBezTo>
                  <a:pt x="1346" y="12577"/>
                  <a:pt x="1540" y="12622"/>
                  <a:pt x="1786" y="12576"/>
                </a:cubicBezTo>
                <a:cubicBezTo>
                  <a:pt x="2118" y="12514"/>
                  <a:pt x="2532" y="12370"/>
                  <a:pt x="2778" y="12129"/>
                </a:cubicBezTo>
                <a:cubicBezTo>
                  <a:pt x="2990" y="11921"/>
                  <a:pt x="3012" y="11525"/>
                  <a:pt x="2927" y="11261"/>
                </a:cubicBezTo>
                <a:cubicBezTo>
                  <a:pt x="2827" y="10950"/>
                  <a:pt x="2432" y="10870"/>
                  <a:pt x="2158" y="10864"/>
                </a:cubicBezTo>
                <a:cubicBezTo>
                  <a:pt x="1791" y="10856"/>
                  <a:pt x="1477" y="10979"/>
                  <a:pt x="1240" y="11261"/>
                </a:cubicBezTo>
                <a:cubicBezTo>
                  <a:pt x="1004" y="11542"/>
                  <a:pt x="1022" y="11800"/>
                  <a:pt x="1116" y="12129"/>
                </a:cubicBezTo>
                <a:cubicBezTo>
                  <a:pt x="1220" y="12491"/>
                  <a:pt x="1389" y="12663"/>
                  <a:pt x="1786" y="12576"/>
                </a:cubicBezTo>
                <a:cubicBezTo>
                  <a:pt x="2024" y="12481"/>
                  <a:pt x="2097" y="12454"/>
                  <a:pt x="2232" y="123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 – 4 x 3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 + 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27280" y="1554120"/>
            <a:ext cx="2027520" cy="509760"/>
          </a:xfrm>
          <a:custGeom>
            <a:avLst/>
            <a:gdLst/>
            <a:ahLst/>
            <a:rect l="l" t="t" r="r" b="b"/>
            <a:pathLst>
              <a:path w="5632" h="1415">
                <a:moveTo>
                  <a:pt x="10790" y="4614"/>
                </a:moveTo>
                <a:cubicBezTo>
                  <a:pt x="10853" y="4738"/>
                  <a:pt x="10841" y="4865"/>
                  <a:pt x="10988" y="4862"/>
                </a:cubicBezTo>
                <a:cubicBezTo>
                  <a:pt x="11356" y="4855"/>
                  <a:pt x="11741" y="4699"/>
                  <a:pt x="12105" y="4638"/>
                </a:cubicBezTo>
                <a:cubicBezTo>
                  <a:pt x="12246" y="4614"/>
                  <a:pt x="12341" y="4629"/>
                  <a:pt x="12477" y="4638"/>
                </a:cubicBezTo>
                <a:cubicBezTo>
                  <a:pt x="12507" y="4530"/>
                  <a:pt x="12502" y="4432"/>
                  <a:pt x="12502" y="4316"/>
                </a:cubicBezTo>
              </a:path>
              <a:path w="5632" h="1415">
                <a:moveTo>
                  <a:pt x="11435" y="5209"/>
                </a:moveTo>
                <a:cubicBezTo>
                  <a:pt x="11460" y="5333"/>
                  <a:pt x="11468" y="5374"/>
                  <a:pt x="11485" y="5457"/>
                </a:cubicBezTo>
              </a:path>
              <a:path w="5632" h="1415">
                <a:moveTo>
                  <a:pt x="11683" y="5085"/>
                </a:moveTo>
                <a:cubicBezTo>
                  <a:pt x="11897" y="5100"/>
                  <a:pt x="11943" y="5087"/>
                  <a:pt x="12080" y="5234"/>
                </a:cubicBezTo>
                <a:cubicBezTo>
                  <a:pt x="11992" y="5315"/>
                  <a:pt x="11745" y="5343"/>
                  <a:pt x="11757" y="5333"/>
                </a:cubicBezTo>
                <a:cubicBezTo>
                  <a:pt x="11836" y="5268"/>
                  <a:pt x="11949" y="5335"/>
                  <a:pt x="12030" y="5358"/>
                </a:cubicBezTo>
              </a:path>
              <a:path w="5632" h="1415">
                <a:moveTo>
                  <a:pt x="10021" y="5209"/>
                </a:moveTo>
                <a:cubicBezTo>
                  <a:pt x="10042" y="5209"/>
                  <a:pt x="9865" y="5290"/>
                  <a:pt x="9798" y="5333"/>
                </a:cubicBezTo>
                <a:cubicBezTo>
                  <a:pt x="9852" y="5388"/>
                  <a:pt x="10193" y="5514"/>
                  <a:pt x="10220" y="5606"/>
                </a:cubicBezTo>
                <a:cubicBezTo>
                  <a:pt x="10203" y="5631"/>
                  <a:pt x="10187" y="5655"/>
                  <a:pt x="10170" y="5680"/>
                </a:cubicBezTo>
                <a:cubicBezTo>
                  <a:pt x="9936" y="5731"/>
                  <a:pt x="10011" y="5536"/>
                  <a:pt x="10096" y="5358"/>
                </a:cubicBezTo>
                <a:cubicBezTo>
                  <a:pt x="10104" y="5350"/>
                  <a:pt x="10112" y="5341"/>
                  <a:pt x="10120" y="5333"/>
                </a:cubicBezTo>
              </a:path>
              <a:path w="5632" h="1415">
                <a:moveTo>
                  <a:pt x="10691" y="5383"/>
                </a:moveTo>
                <a:cubicBezTo>
                  <a:pt x="10790" y="5409"/>
                  <a:pt x="10882" y="5407"/>
                  <a:pt x="10988" y="5407"/>
                </a:cubicBezTo>
              </a:path>
              <a:path w="5632" h="1415">
                <a:moveTo>
                  <a:pt x="12601" y="5383"/>
                </a:moveTo>
                <a:cubicBezTo>
                  <a:pt x="12751" y="5372"/>
                  <a:pt x="12895" y="5358"/>
                  <a:pt x="13047" y="5358"/>
                </a:cubicBezTo>
              </a:path>
              <a:path w="5632" h="1415">
                <a:moveTo>
                  <a:pt x="12774" y="5035"/>
                </a:moveTo>
                <a:lnTo>
                  <a:pt x="12774" y="5035"/>
                </a:lnTo>
              </a:path>
              <a:path w="5632" h="1415">
                <a:moveTo>
                  <a:pt x="12973" y="5606"/>
                </a:moveTo>
                <a:lnTo>
                  <a:pt x="12973" y="5606"/>
                </a:lnTo>
              </a:path>
              <a:path w="5632" h="1415">
                <a:moveTo>
                  <a:pt x="13469" y="4986"/>
                </a:moveTo>
                <a:cubicBezTo>
                  <a:pt x="13444" y="5140"/>
                  <a:pt x="13374" y="5405"/>
                  <a:pt x="13568" y="5482"/>
                </a:cubicBezTo>
                <a:cubicBezTo>
                  <a:pt x="13750" y="5554"/>
                  <a:pt x="13865" y="5381"/>
                  <a:pt x="13816" y="5259"/>
                </a:cubicBezTo>
                <a:cubicBezTo>
                  <a:pt x="13666" y="5299"/>
                  <a:pt x="13676" y="5303"/>
                  <a:pt x="13618" y="5457"/>
                </a:cubicBezTo>
              </a:path>
              <a:path w="5632" h="1415">
                <a:moveTo>
                  <a:pt x="14461" y="5035"/>
                </a:moveTo>
                <a:cubicBezTo>
                  <a:pt x="14500" y="5144"/>
                  <a:pt x="14532" y="5246"/>
                  <a:pt x="14560" y="5358"/>
                </a:cubicBezTo>
              </a:path>
              <a:path w="5632" h="1415">
                <a:moveTo>
                  <a:pt x="14312" y="5234"/>
                </a:moveTo>
                <a:cubicBezTo>
                  <a:pt x="14474" y="5227"/>
                  <a:pt x="14624" y="5210"/>
                  <a:pt x="14784" y="5184"/>
                </a:cubicBezTo>
              </a:path>
              <a:path w="5632" h="1415">
                <a:moveTo>
                  <a:pt x="14957" y="4961"/>
                </a:moveTo>
                <a:cubicBezTo>
                  <a:pt x="14984" y="5096"/>
                  <a:pt x="15049" y="5229"/>
                  <a:pt x="15106" y="5358"/>
                </a:cubicBezTo>
              </a:path>
              <a:path w="5632" h="1415">
                <a:moveTo>
                  <a:pt x="15304" y="4862"/>
                </a:moveTo>
                <a:cubicBezTo>
                  <a:pt x="15317" y="5005"/>
                  <a:pt x="15355" y="5147"/>
                  <a:pt x="15404" y="5283"/>
                </a:cubicBezTo>
                <a:cubicBezTo>
                  <a:pt x="15412" y="5300"/>
                  <a:pt x="15421" y="5316"/>
                  <a:pt x="15429" y="53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67120" y="2017800"/>
            <a:ext cx="1000080" cy="563400"/>
          </a:xfrm>
          <a:custGeom>
            <a:avLst/>
            <a:gdLst/>
            <a:ahLst/>
            <a:rect l="l" t="t" r="r" b="b"/>
            <a:pathLst>
              <a:path w="2780" h="1564">
                <a:moveTo>
                  <a:pt x="12080" y="5854"/>
                </a:moveTo>
                <a:cubicBezTo>
                  <a:pt x="12086" y="5954"/>
                  <a:pt x="12095" y="6032"/>
                  <a:pt x="12129" y="6127"/>
                </a:cubicBezTo>
                <a:cubicBezTo>
                  <a:pt x="12438" y="6112"/>
                  <a:pt x="12742" y="6056"/>
                  <a:pt x="13047" y="6003"/>
                </a:cubicBezTo>
                <a:cubicBezTo>
                  <a:pt x="13337" y="5952"/>
                  <a:pt x="13261" y="5971"/>
                  <a:pt x="13494" y="5978"/>
                </a:cubicBezTo>
                <a:cubicBezTo>
                  <a:pt x="13512" y="5851"/>
                  <a:pt x="13519" y="5735"/>
                  <a:pt x="13519" y="5606"/>
                </a:cubicBezTo>
              </a:path>
              <a:path w="2780" h="1564">
                <a:moveTo>
                  <a:pt x="12898" y="6474"/>
                </a:moveTo>
                <a:cubicBezTo>
                  <a:pt x="13049" y="6499"/>
                  <a:pt x="13101" y="6509"/>
                  <a:pt x="13171" y="6598"/>
                </a:cubicBezTo>
                <a:cubicBezTo>
                  <a:pt x="13159" y="6852"/>
                  <a:pt x="13025" y="6998"/>
                  <a:pt x="12725" y="6945"/>
                </a:cubicBezTo>
                <a:cubicBezTo>
                  <a:pt x="12708" y="6929"/>
                  <a:pt x="12692" y="6912"/>
                  <a:pt x="12675" y="6896"/>
                </a:cubicBezTo>
                <a:cubicBezTo>
                  <a:pt x="12827" y="6778"/>
                  <a:pt x="12947" y="6770"/>
                  <a:pt x="13122" y="6896"/>
                </a:cubicBezTo>
                <a:cubicBezTo>
                  <a:pt x="13138" y="6912"/>
                  <a:pt x="13155" y="6929"/>
                  <a:pt x="13171" y="6945"/>
                </a:cubicBezTo>
              </a:path>
              <a:path w="2780" h="1564">
                <a:moveTo>
                  <a:pt x="10914" y="6623"/>
                </a:moveTo>
                <a:cubicBezTo>
                  <a:pt x="10797" y="6682"/>
                  <a:pt x="10656" y="6766"/>
                  <a:pt x="10815" y="6896"/>
                </a:cubicBezTo>
                <a:cubicBezTo>
                  <a:pt x="10941" y="6999"/>
                  <a:pt x="11029" y="6986"/>
                  <a:pt x="11088" y="7119"/>
                </a:cubicBezTo>
                <a:cubicBezTo>
                  <a:pt x="10878" y="7184"/>
                  <a:pt x="10876" y="7060"/>
                  <a:pt x="10939" y="6871"/>
                </a:cubicBezTo>
                <a:cubicBezTo>
                  <a:pt x="10955" y="6830"/>
                  <a:pt x="10972" y="6788"/>
                  <a:pt x="10988" y="6747"/>
                </a:cubicBezTo>
              </a:path>
              <a:path w="2780" h="1564">
                <a:moveTo>
                  <a:pt x="11609" y="6896"/>
                </a:moveTo>
                <a:cubicBezTo>
                  <a:pt x="11701" y="6889"/>
                  <a:pt x="11788" y="6877"/>
                  <a:pt x="11881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62240" y="2589120"/>
            <a:ext cx="1081440" cy="1063800"/>
          </a:xfrm>
          <a:custGeom>
            <a:avLst/>
            <a:gdLst/>
            <a:ahLst/>
            <a:rect l="l" t="t" r="r" b="b"/>
            <a:pathLst>
              <a:path w="3003" h="2953">
                <a:moveTo>
                  <a:pt x="11286" y="7565"/>
                </a:moveTo>
                <a:cubicBezTo>
                  <a:pt x="11304" y="7656"/>
                  <a:pt x="11313" y="7663"/>
                  <a:pt x="11311" y="7714"/>
                </a:cubicBezTo>
                <a:cubicBezTo>
                  <a:pt x="11542" y="7688"/>
                  <a:pt x="11802" y="7573"/>
                  <a:pt x="12030" y="7516"/>
                </a:cubicBezTo>
                <a:cubicBezTo>
                  <a:pt x="12146" y="7487"/>
                  <a:pt x="12580" y="7491"/>
                  <a:pt x="12675" y="7441"/>
                </a:cubicBezTo>
                <a:cubicBezTo>
                  <a:pt x="12737" y="7408"/>
                  <a:pt x="12700" y="7252"/>
                  <a:pt x="12700" y="7193"/>
                </a:cubicBezTo>
              </a:path>
              <a:path w="3003" h="2953">
                <a:moveTo>
                  <a:pt x="12105" y="7813"/>
                </a:moveTo>
                <a:cubicBezTo>
                  <a:pt x="12057" y="8023"/>
                  <a:pt x="11999" y="8221"/>
                  <a:pt x="11981" y="8434"/>
                </a:cubicBezTo>
                <a:cubicBezTo>
                  <a:pt x="12156" y="8492"/>
                  <a:pt x="12389" y="8449"/>
                  <a:pt x="12477" y="8235"/>
                </a:cubicBezTo>
                <a:cubicBezTo>
                  <a:pt x="12469" y="8210"/>
                  <a:pt x="12460" y="8186"/>
                  <a:pt x="12452" y="8161"/>
                </a:cubicBezTo>
                <a:cubicBezTo>
                  <a:pt x="12279" y="8186"/>
                  <a:pt x="12296" y="8255"/>
                  <a:pt x="12278" y="8409"/>
                </a:cubicBezTo>
              </a:path>
              <a:path w="3003" h="2953">
                <a:moveTo>
                  <a:pt x="12998" y="7962"/>
                </a:moveTo>
                <a:cubicBezTo>
                  <a:pt x="13023" y="8073"/>
                  <a:pt x="13040" y="8172"/>
                  <a:pt x="13047" y="8285"/>
                </a:cubicBezTo>
              </a:path>
              <a:path w="3003" h="2953">
                <a:moveTo>
                  <a:pt x="12898" y="8136"/>
                </a:moveTo>
                <a:cubicBezTo>
                  <a:pt x="13003" y="8171"/>
                  <a:pt x="13059" y="8179"/>
                  <a:pt x="13146" y="8161"/>
                </a:cubicBezTo>
              </a:path>
              <a:path w="3003" h="2953">
                <a:moveTo>
                  <a:pt x="13618" y="7863"/>
                </a:moveTo>
                <a:cubicBezTo>
                  <a:pt x="13625" y="8022"/>
                  <a:pt x="13653" y="8176"/>
                  <a:pt x="13667" y="8334"/>
                </a:cubicBezTo>
              </a:path>
              <a:path w="3003" h="2953">
                <a:moveTo>
                  <a:pt x="14039" y="7789"/>
                </a:moveTo>
                <a:cubicBezTo>
                  <a:pt x="14102" y="7972"/>
                  <a:pt x="14163" y="8156"/>
                  <a:pt x="14238" y="8334"/>
                </a:cubicBezTo>
              </a:path>
              <a:path w="3003" h="2953">
                <a:moveTo>
                  <a:pt x="12675" y="9227"/>
                </a:moveTo>
                <a:cubicBezTo>
                  <a:pt x="12724" y="9394"/>
                  <a:pt x="12746" y="9588"/>
                  <a:pt x="12799" y="9748"/>
                </a:cubicBezTo>
                <a:cubicBezTo>
                  <a:pt x="12807" y="9756"/>
                  <a:pt x="12816" y="9765"/>
                  <a:pt x="12824" y="9773"/>
                </a:cubicBezTo>
              </a:path>
              <a:path w="3003" h="2953">
                <a:moveTo>
                  <a:pt x="13072" y="9079"/>
                </a:moveTo>
                <a:cubicBezTo>
                  <a:pt x="13197" y="9055"/>
                  <a:pt x="13320" y="9032"/>
                  <a:pt x="13444" y="9004"/>
                </a:cubicBezTo>
                <a:cubicBezTo>
                  <a:pt x="13481" y="9164"/>
                  <a:pt x="13476" y="9281"/>
                  <a:pt x="13469" y="9451"/>
                </a:cubicBezTo>
              </a:path>
              <a:path w="3003" h="2953">
                <a:moveTo>
                  <a:pt x="12601" y="10096"/>
                </a:moveTo>
                <a:cubicBezTo>
                  <a:pt x="13003" y="10157"/>
                  <a:pt x="13329" y="10150"/>
                  <a:pt x="13717" y="9996"/>
                </a:cubicBezTo>
                <a:cubicBezTo>
                  <a:pt x="14023" y="9874"/>
                  <a:pt x="14375" y="9579"/>
                  <a:pt x="14288" y="9203"/>
                </a:cubicBezTo>
                <a:cubicBezTo>
                  <a:pt x="14178" y="8729"/>
                  <a:pt x="13621" y="8763"/>
                  <a:pt x="13246" y="8756"/>
                </a:cubicBezTo>
                <a:cubicBezTo>
                  <a:pt x="12838" y="8748"/>
                  <a:pt x="12536" y="8772"/>
                  <a:pt x="12328" y="9178"/>
                </a:cubicBezTo>
                <a:cubicBezTo>
                  <a:pt x="12063" y="9694"/>
                  <a:pt x="12276" y="9742"/>
                  <a:pt x="12650" y="99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83120" y="2259000"/>
            <a:ext cx="411120" cy="206280"/>
          </a:xfrm>
          <a:custGeom>
            <a:avLst/>
            <a:gdLst/>
            <a:ahLst/>
            <a:rect l="l" t="t" r="r" b="b"/>
            <a:pathLst>
              <a:path w="1142" h="571">
                <a:moveTo>
                  <a:pt x="13841" y="6499"/>
                </a:moveTo>
                <a:cubicBezTo>
                  <a:pt x="13899" y="6615"/>
                  <a:pt x="13944" y="6725"/>
                  <a:pt x="13990" y="6846"/>
                </a:cubicBezTo>
              </a:path>
              <a:path w="1142" h="571">
                <a:moveTo>
                  <a:pt x="13891" y="6697"/>
                </a:moveTo>
                <a:cubicBezTo>
                  <a:pt x="13957" y="6689"/>
                  <a:pt x="14023" y="6680"/>
                  <a:pt x="14089" y="6672"/>
                </a:cubicBezTo>
              </a:path>
              <a:path w="1142" h="571">
                <a:moveTo>
                  <a:pt x="14511" y="6424"/>
                </a:moveTo>
                <a:cubicBezTo>
                  <a:pt x="14537" y="6567"/>
                  <a:pt x="14554" y="6701"/>
                  <a:pt x="14560" y="6846"/>
                </a:cubicBezTo>
              </a:path>
              <a:path w="1142" h="571">
                <a:moveTo>
                  <a:pt x="14833" y="6276"/>
                </a:moveTo>
                <a:cubicBezTo>
                  <a:pt x="14885" y="6439"/>
                  <a:pt x="14952" y="6607"/>
                  <a:pt x="14982" y="67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will be our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333399"/>
                </a:solidFill>
                <a:latin typeface="Curlz MT"/>
              </a:rPr>
              <a:t>Algebra Whiz Team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73160" y="6357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482" y="17661"/>
                </a:moveTo>
                <a:lnTo>
                  <a:pt x="5482" y="1766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0 + 6 x 5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 x 7 + 15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 the rule for the function tab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438280" y="3962520"/>
          <a:ext cx="4038840" cy="2342880"/>
        </p:xfrm>
        <a:graphic>
          <a:graphicData uri="http://schemas.openxmlformats.org/drawingml/2006/table">
            <a:tbl>
              <a:tblPr/>
              <a:tblGrid>
                <a:gridCol w="2017800"/>
                <a:gridCol w="202104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3732120" y="1768320"/>
            <a:ext cx="1108080" cy="366840"/>
          </a:xfrm>
          <a:custGeom>
            <a:avLst/>
            <a:gdLst/>
            <a:ahLst/>
            <a:rect l="l" t="t" r="r" b="b"/>
            <a:pathLst>
              <a:path w="3077" h="1018">
                <a:moveTo>
                  <a:pt x="11633" y="4961"/>
                </a:moveTo>
                <a:cubicBezTo>
                  <a:pt x="11673" y="4840"/>
                  <a:pt x="11655" y="5042"/>
                  <a:pt x="11658" y="5085"/>
                </a:cubicBezTo>
                <a:cubicBezTo>
                  <a:pt x="11811" y="5085"/>
                  <a:pt x="11954" y="5073"/>
                  <a:pt x="12105" y="5060"/>
                </a:cubicBezTo>
                <a:cubicBezTo>
                  <a:pt x="12479" y="5027"/>
                  <a:pt x="12903" y="5039"/>
                  <a:pt x="13271" y="5085"/>
                </a:cubicBezTo>
                <a:cubicBezTo>
                  <a:pt x="13334" y="5093"/>
                  <a:pt x="13384" y="5093"/>
                  <a:pt x="13444" y="5110"/>
                </a:cubicBezTo>
                <a:cubicBezTo>
                  <a:pt x="13444" y="5025"/>
                  <a:pt x="13444" y="4979"/>
                  <a:pt x="13419" y="4911"/>
                </a:cubicBezTo>
              </a:path>
              <a:path w="3077" h="1018">
                <a:moveTo>
                  <a:pt x="12179" y="5283"/>
                </a:moveTo>
                <a:cubicBezTo>
                  <a:pt x="12207" y="5268"/>
                  <a:pt x="12485" y="5200"/>
                  <a:pt x="12378" y="5333"/>
                </a:cubicBezTo>
                <a:cubicBezTo>
                  <a:pt x="12306" y="5357"/>
                  <a:pt x="12283" y="5363"/>
                  <a:pt x="12254" y="5407"/>
                </a:cubicBezTo>
                <a:cubicBezTo>
                  <a:pt x="12340" y="5399"/>
                  <a:pt x="12394" y="5395"/>
                  <a:pt x="12477" y="5407"/>
                </a:cubicBezTo>
                <a:cubicBezTo>
                  <a:pt x="12477" y="5571"/>
                  <a:pt x="12340" y="5649"/>
                  <a:pt x="12154" y="5655"/>
                </a:cubicBezTo>
                <a:cubicBezTo>
                  <a:pt x="12138" y="5647"/>
                  <a:pt x="12121" y="5639"/>
                  <a:pt x="12105" y="5631"/>
                </a:cubicBezTo>
              </a:path>
              <a:path w="3077" h="1018">
                <a:moveTo>
                  <a:pt x="12750" y="5234"/>
                </a:moveTo>
                <a:cubicBezTo>
                  <a:pt x="12723" y="5315"/>
                  <a:pt x="12707" y="5373"/>
                  <a:pt x="12700" y="5457"/>
                </a:cubicBezTo>
                <a:cubicBezTo>
                  <a:pt x="12790" y="5475"/>
                  <a:pt x="12923" y="5472"/>
                  <a:pt x="12923" y="5333"/>
                </a:cubicBezTo>
                <a:cubicBezTo>
                  <a:pt x="12880" y="5246"/>
                  <a:pt x="12831" y="5218"/>
                  <a:pt x="12725" y="5234"/>
                </a:cubicBezTo>
              </a:path>
              <a:path w="3077" h="1018">
                <a:moveTo>
                  <a:pt x="10666" y="5383"/>
                </a:moveTo>
                <a:cubicBezTo>
                  <a:pt x="10571" y="5288"/>
                  <a:pt x="10491" y="5177"/>
                  <a:pt x="10393" y="5333"/>
                </a:cubicBezTo>
                <a:cubicBezTo>
                  <a:pt x="10385" y="5358"/>
                  <a:pt x="10376" y="5382"/>
                  <a:pt x="10368" y="5407"/>
                </a:cubicBezTo>
                <a:cubicBezTo>
                  <a:pt x="10521" y="5468"/>
                  <a:pt x="10508" y="5484"/>
                  <a:pt x="10592" y="5358"/>
                </a:cubicBezTo>
              </a:path>
              <a:path w="3077" h="1018">
                <a:moveTo>
                  <a:pt x="10616" y="5308"/>
                </a:moveTo>
                <a:cubicBezTo>
                  <a:pt x="10526" y="5478"/>
                  <a:pt x="10478" y="5636"/>
                  <a:pt x="10468" y="5829"/>
                </a:cubicBezTo>
                <a:cubicBezTo>
                  <a:pt x="10468" y="5854"/>
                  <a:pt x="10468" y="5879"/>
                  <a:pt x="10468" y="5904"/>
                </a:cubicBezTo>
                <a:cubicBezTo>
                  <a:pt x="10616" y="5917"/>
                  <a:pt x="10738" y="5841"/>
                  <a:pt x="10790" y="5680"/>
                </a:cubicBezTo>
                <a:cubicBezTo>
                  <a:pt x="10790" y="5619"/>
                  <a:pt x="10799" y="5603"/>
                  <a:pt x="10765" y="5581"/>
                </a:cubicBezTo>
                <a:cubicBezTo>
                  <a:pt x="10655" y="5590"/>
                  <a:pt x="10554" y="5612"/>
                  <a:pt x="10542" y="5755"/>
                </a:cubicBezTo>
                <a:cubicBezTo>
                  <a:pt x="10570" y="5810"/>
                  <a:pt x="10585" y="5826"/>
                  <a:pt x="10641" y="5804"/>
                </a:cubicBezTo>
              </a:path>
              <a:path w="3077" h="1018">
                <a:moveTo>
                  <a:pt x="11038" y="5308"/>
                </a:moveTo>
                <a:cubicBezTo>
                  <a:pt x="10970" y="5424"/>
                  <a:pt x="10949" y="5471"/>
                  <a:pt x="10939" y="5606"/>
                </a:cubicBezTo>
                <a:cubicBezTo>
                  <a:pt x="11042" y="5582"/>
                  <a:pt x="11159" y="5476"/>
                  <a:pt x="11013" y="5358"/>
                </a:cubicBezTo>
                <a:cubicBezTo>
                  <a:pt x="10997" y="5358"/>
                  <a:pt x="10980" y="5358"/>
                  <a:pt x="10964" y="5358"/>
                </a:cubicBezTo>
              </a:path>
              <a:path w="3077" h="1018">
                <a:moveTo>
                  <a:pt x="11485" y="5383"/>
                </a:moveTo>
                <a:cubicBezTo>
                  <a:pt x="11519" y="5504"/>
                  <a:pt x="11534" y="5522"/>
                  <a:pt x="11534" y="5631"/>
                </a:cubicBezTo>
              </a:path>
              <a:path w="3077" h="1018">
                <a:moveTo>
                  <a:pt x="11385" y="5531"/>
                </a:moveTo>
                <a:cubicBezTo>
                  <a:pt x="11476" y="5531"/>
                  <a:pt x="11567" y="5531"/>
                  <a:pt x="11658" y="55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83040" y="1857240"/>
            <a:ext cx="1177920" cy="492120"/>
          </a:xfrm>
          <a:custGeom>
            <a:avLst/>
            <a:gdLst/>
            <a:ahLst/>
            <a:rect l="l" t="t" r="r" b="b"/>
            <a:pathLst>
              <a:path w="3275" h="1366">
                <a:moveTo>
                  <a:pt x="13320" y="5333"/>
                </a:moveTo>
                <a:cubicBezTo>
                  <a:pt x="13388" y="5341"/>
                  <a:pt x="13450" y="5352"/>
                  <a:pt x="13519" y="5358"/>
                </a:cubicBezTo>
              </a:path>
              <a:path w="3275" h="1366">
                <a:moveTo>
                  <a:pt x="13767" y="5159"/>
                </a:moveTo>
                <a:cubicBezTo>
                  <a:pt x="13808" y="5243"/>
                  <a:pt x="13838" y="5318"/>
                  <a:pt x="13866" y="5407"/>
                </a:cubicBezTo>
              </a:path>
              <a:path w="3275" h="1366">
                <a:moveTo>
                  <a:pt x="14039" y="5184"/>
                </a:moveTo>
                <a:cubicBezTo>
                  <a:pt x="14137" y="5184"/>
                  <a:pt x="14221" y="5178"/>
                  <a:pt x="14312" y="5209"/>
                </a:cubicBezTo>
                <a:cubicBezTo>
                  <a:pt x="14292" y="5300"/>
                  <a:pt x="14263" y="5354"/>
                  <a:pt x="14188" y="5407"/>
                </a:cubicBezTo>
                <a:cubicBezTo>
                  <a:pt x="14251" y="5407"/>
                  <a:pt x="14290" y="5389"/>
                  <a:pt x="14337" y="5407"/>
                </a:cubicBezTo>
              </a:path>
              <a:path w="3275" h="1366">
                <a:moveTo>
                  <a:pt x="11063" y="5804"/>
                </a:moveTo>
                <a:cubicBezTo>
                  <a:pt x="11079" y="5978"/>
                  <a:pt x="11125" y="5956"/>
                  <a:pt x="11286" y="5953"/>
                </a:cubicBezTo>
                <a:cubicBezTo>
                  <a:pt x="11478" y="5949"/>
                  <a:pt x="11665" y="5928"/>
                  <a:pt x="11857" y="5928"/>
                </a:cubicBezTo>
                <a:cubicBezTo>
                  <a:pt x="12003" y="5928"/>
                  <a:pt x="11972" y="5917"/>
                  <a:pt x="12005" y="5779"/>
                </a:cubicBezTo>
              </a:path>
              <a:path w="3275" h="1366">
                <a:moveTo>
                  <a:pt x="11658" y="6152"/>
                </a:moveTo>
                <a:cubicBezTo>
                  <a:pt x="11570" y="6085"/>
                  <a:pt x="11495" y="6081"/>
                  <a:pt x="11460" y="6226"/>
                </a:cubicBezTo>
                <a:cubicBezTo>
                  <a:pt x="11402" y="6465"/>
                  <a:pt x="11600" y="6234"/>
                  <a:pt x="11633" y="6201"/>
                </a:cubicBezTo>
                <a:cubicBezTo>
                  <a:pt x="11633" y="6185"/>
                  <a:pt x="11633" y="6168"/>
                  <a:pt x="11633" y="6152"/>
                </a:cubicBezTo>
                <a:cubicBezTo>
                  <a:pt x="11624" y="6277"/>
                  <a:pt x="11609" y="6397"/>
                  <a:pt x="11609" y="6524"/>
                </a:cubicBezTo>
              </a:path>
              <a:path w="3275" h="1366">
                <a:moveTo>
                  <a:pt x="11906" y="6127"/>
                </a:moveTo>
                <a:cubicBezTo>
                  <a:pt x="11862" y="6252"/>
                  <a:pt x="11854" y="6293"/>
                  <a:pt x="11881" y="6424"/>
                </a:cubicBezTo>
                <a:cubicBezTo>
                  <a:pt x="12004" y="6397"/>
                  <a:pt x="12092" y="6325"/>
                  <a:pt x="12055" y="6176"/>
                </a:cubicBezTo>
                <a:cubicBezTo>
                  <a:pt x="12033" y="6084"/>
                  <a:pt x="11995" y="6102"/>
                  <a:pt x="11931" y="6102"/>
                </a:cubicBezTo>
              </a:path>
              <a:path w="3275" h="1366">
                <a:moveTo>
                  <a:pt x="12452" y="6127"/>
                </a:moveTo>
                <a:cubicBezTo>
                  <a:pt x="12522" y="6173"/>
                  <a:pt x="12542" y="6190"/>
                  <a:pt x="12601" y="6176"/>
                </a:cubicBezTo>
              </a:path>
              <a:path w="3275" h="1366">
                <a:moveTo>
                  <a:pt x="12874" y="6003"/>
                </a:moveTo>
                <a:cubicBezTo>
                  <a:pt x="12931" y="6141"/>
                  <a:pt x="12964" y="6279"/>
                  <a:pt x="12998" y="6424"/>
                </a:cubicBezTo>
              </a:path>
              <a:path w="3275" h="1366">
                <a:moveTo>
                  <a:pt x="13221" y="6028"/>
                </a:moveTo>
                <a:cubicBezTo>
                  <a:pt x="13309" y="6022"/>
                  <a:pt x="13367" y="6011"/>
                  <a:pt x="13444" y="6028"/>
                </a:cubicBezTo>
                <a:cubicBezTo>
                  <a:pt x="13412" y="6158"/>
                  <a:pt x="13349" y="6221"/>
                  <a:pt x="13271" y="6325"/>
                </a:cubicBezTo>
                <a:cubicBezTo>
                  <a:pt x="13375" y="6302"/>
                  <a:pt x="13476" y="6253"/>
                  <a:pt x="13568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07000" y="1687680"/>
            <a:ext cx="938160" cy="706320"/>
          </a:xfrm>
          <a:custGeom>
            <a:avLst/>
            <a:gdLst/>
            <a:ahLst/>
            <a:rect l="l" t="t" r="r" b="b"/>
            <a:pathLst>
              <a:path w="2606" h="1961">
                <a:moveTo>
                  <a:pt x="15726" y="5482"/>
                </a:moveTo>
                <a:cubicBezTo>
                  <a:pt x="15912" y="5494"/>
                  <a:pt x="16061" y="5491"/>
                  <a:pt x="16247" y="5457"/>
                </a:cubicBezTo>
                <a:cubicBezTo>
                  <a:pt x="16259" y="5698"/>
                  <a:pt x="16168" y="5876"/>
                  <a:pt x="16073" y="6102"/>
                </a:cubicBezTo>
              </a:path>
              <a:path w="2606" h="1961">
                <a:moveTo>
                  <a:pt x="17066" y="5333"/>
                </a:moveTo>
                <a:cubicBezTo>
                  <a:pt x="16978" y="5351"/>
                  <a:pt x="16782" y="5418"/>
                  <a:pt x="16842" y="5556"/>
                </a:cubicBezTo>
                <a:cubicBezTo>
                  <a:pt x="16889" y="5664"/>
                  <a:pt x="17115" y="5705"/>
                  <a:pt x="17214" y="5755"/>
                </a:cubicBezTo>
                <a:cubicBezTo>
                  <a:pt x="17214" y="5771"/>
                  <a:pt x="17214" y="5788"/>
                  <a:pt x="17214" y="5804"/>
                </a:cubicBezTo>
                <a:cubicBezTo>
                  <a:pt x="16966" y="5882"/>
                  <a:pt x="17016" y="5796"/>
                  <a:pt x="17066" y="5581"/>
                </a:cubicBezTo>
                <a:cubicBezTo>
                  <a:pt x="17086" y="5480"/>
                  <a:pt x="17083" y="5460"/>
                  <a:pt x="17115" y="5407"/>
                </a:cubicBezTo>
              </a:path>
              <a:path w="2606" h="1961">
                <a:moveTo>
                  <a:pt x="15925" y="6499"/>
                </a:moveTo>
                <a:cubicBezTo>
                  <a:pt x="16275" y="6568"/>
                  <a:pt x="16682" y="6513"/>
                  <a:pt x="17041" y="6449"/>
                </a:cubicBezTo>
                <a:cubicBezTo>
                  <a:pt x="17377" y="6389"/>
                  <a:pt x="18051" y="6302"/>
                  <a:pt x="18182" y="5904"/>
                </a:cubicBezTo>
                <a:cubicBezTo>
                  <a:pt x="18242" y="5722"/>
                  <a:pt x="18114" y="5338"/>
                  <a:pt x="18008" y="5184"/>
                </a:cubicBezTo>
                <a:cubicBezTo>
                  <a:pt x="17806" y="4889"/>
                  <a:pt x="17438" y="4727"/>
                  <a:pt x="17090" y="4688"/>
                </a:cubicBezTo>
                <a:cubicBezTo>
                  <a:pt x="16754" y="4650"/>
                  <a:pt x="16395" y="4790"/>
                  <a:pt x="16098" y="4936"/>
                </a:cubicBezTo>
                <a:cubicBezTo>
                  <a:pt x="15800" y="5083"/>
                  <a:pt x="15623" y="5348"/>
                  <a:pt x="15577" y="5680"/>
                </a:cubicBezTo>
                <a:cubicBezTo>
                  <a:pt x="15536" y="5975"/>
                  <a:pt x="15605" y="6430"/>
                  <a:pt x="15875" y="6598"/>
                </a:cubicBezTo>
                <a:cubicBezTo>
                  <a:pt x="16057" y="6711"/>
                  <a:pt x="16401" y="6654"/>
                  <a:pt x="16594" y="6598"/>
                </a:cubicBezTo>
                <a:cubicBezTo>
                  <a:pt x="16602" y="6590"/>
                  <a:pt x="16611" y="6581"/>
                  <a:pt x="16619" y="65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83000" y="2911320"/>
            <a:ext cx="2340000" cy="473400"/>
          </a:xfrm>
          <a:custGeom>
            <a:avLst/>
            <a:gdLst/>
            <a:ahLst/>
            <a:rect l="l" t="t" r="r" b="b"/>
            <a:pathLst>
              <a:path w="6500" h="1316">
                <a:moveTo>
                  <a:pt x="9674" y="8136"/>
                </a:moveTo>
                <a:cubicBezTo>
                  <a:pt x="9720" y="8206"/>
                  <a:pt x="9737" y="8226"/>
                  <a:pt x="9723" y="8285"/>
                </a:cubicBezTo>
                <a:cubicBezTo>
                  <a:pt x="9898" y="8271"/>
                  <a:pt x="10065" y="8238"/>
                  <a:pt x="10244" y="8235"/>
                </a:cubicBezTo>
                <a:cubicBezTo>
                  <a:pt x="10483" y="8231"/>
                  <a:pt x="10734" y="8221"/>
                  <a:pt x="10964" y="8260"/>
                </a:cubicBezTo>
                <a:cubicBezTo>
                  <a:pt x="11064" y="8277"/>
                  <a:pt x="11059" y="8220"/>
                  <a:pt x="11063" y="8136"/>
                </a:cubicBezTo>
                <a:cubicBezTo>
                  <a:pt x="11063" y="8119"/>
                  <a:pt x="11063" y="8103"/>
                  <a:pt x="11063" y="8086"/>
                </a:cubicBezTo>
              </a:path>
              <a:path w="6500" h="1316">
                <a:moveTo>
                  <a:pt x="9947" y="8384"/>
                </a:moveTo>
                <a:cubicBezTo>
                  <a:pt x="10022" y="8397"/>
                  <a:pt x="10195" y="8457"/>
                  <a:pt x="10195" y="8558"/>
                </a:cubicBezTo>
                <a:cubicBezTo>
                  <a:pt x="10195" y="8790"/>
                  <a:pt x="9919" y="8788"/>
                  <a:pt x="9773" y="8781"/>
                </a:cubicBezTo>
                <a:cubicBezTo>
                  <a:pt x="9880" y="8674"/>
                  <a:pt x="10080" y="8574"/>
                  <a:pt x="10220" y="8731"/>
                </a:cubicBezTo>
                <a:cubicBezTo>
                  <a:pt x="10228" y="8764"/>
                  <a:pt x="10236" y="8797"/>
                  <a:pt x="10244" y="8830"/>
                </a:cubicBezTo>
              </a:path>
              <a:path w="6500" h="1316">
                <a:moveTo>
                  <a:pt x="10716" y="8483"/>
                </a:moveTo>
                <a:cubicBezTo>
                  <a:pt x="10655" y="8498"/>
                  <a:pt x="10445" y="8491"/>
                  <a:pt x="10542" y="8607"/>
                </a:cubicBezTo>
                <a:cubicBezTo>
                  <a:pt x="10641" y="8682"/>
                  <a:pt x="10674" y="8707"/>
                  <a:pt x="10740" y="8756"/>
                </a:cubicBezTo>
                <a:cubicBezTo>
                  <a:pt x="10670" y="8780"/>
                  <a:pt x="10552" y="8816"/>
                  <a:pt x="10592" y="8682"/>
                </a:cubicBezTo>
                <a:cubicBezTo>
                  <a:pt x="10638" y="8589"/>
                  <a:pt x="10650" y="8561"/>
                  <a:pt x="10691" y="8508"/>
                </a:cubicBezTo>
              </a:path>
              <a:path w="6500" h="1316">
                <a:moveTo>
                  <a:pt x="11336" y="8434"/>
                </a:moveTo>
                <a:cubicBezTo>
                  <a:pt x="11336" y="8517"/>
                  <a:pt x="11336" y="8599"/>
                  <a:pt x="11336" y="8682"/>
                </a:cubicBezTo>
              </a:path>
              <a:path w="6500" h="1316">
                <a:moveTo>
                  <a:pt x="11187" y="8607"/>
                </a:moveTo>
                <a:cubicBezTo>
                  <a:pt x="11304" y="8601"/>
                  <a:pt x="11418" y="8590"/>
                  <a:pt x="11534" y="8582"/>
                </a:cubicBezTo>
              </a:path>
              <a:path w="6500" h="1316">
                <a:moveTo>
                  <a:pt x="11807" y="8434"/>
                </a:moveTo>
                <a:cubicBezTo>
                  <a:pt x="11799" y="8535"/>
                  <a:pt x="11782" y="8629"/>
                  <a:pt x="11782" y="8731"/>
                </a:cubicBezTo>
              </a:path>
              <a:path w="6500" h="1316">
                <a:moveTo>
                  <a:pt x="12254" y="8384"/>
                </a:moveTo>
                <a:cubicBezTo>
                  <a:pt x="12146" y="8420"/>
                  <a:pt x="12083" y="8422"/>
                  <a:pt x="12055" y="8533"/>
                </a:cubicBezTo>
                <a:cubicBezTo>
                  <a:pt x="12176" y="8533"/>
                  <a:pt x="12286" y="8517"/>
                  <a:pt x="12402" y="8533"/>
                </a:cubicBezTo>
                <a:cubicBezTo>
                  <a:pt x="12418" y="8717"/>
                  <a:pt x="12326" y="8713"/>
                  <a:pt x="12154" y="8731"/>
                </a:cubicBezTo>
              </a:path>
              <a:path w="6500" h="1316">
                <a:moveTo>
                  <a:pt x="12750" y="8607"/>
                </a:moveTo>
                <a:cubicBezTo>
                  <a:pt x="12845" y="8602"/>
                  <a:pt x="12929" y="8591"/>
                  <a:pt x="13022" y="8582"/>
                </a:cubicBezTo>
              </a:path>
              <a:path w="6500" h="1316">
                <a:moveTo>
                  <a:pt x="12948" y="8334"/>
                </a:moveTo>
                <a:lnTo>
                  <a:pt x="12948" y="8334"/>
                </a:lnTo>
              </a:path>
              <a:path w="6500" h="1316">
                <a:moveTo>
                  <a:pt x="12824" y="8781"/>
                </a:moveTo>
                <a:lnTo>
                  <a:pt x="12824" y="8781"/>
                </a:lnTo>
              </a:path>
              <a:path w="6500" h="1316">
                <a:moveTo>
                  <a:pt x="13246" y="8409"/>
                </a:moveTo>
                <a:cubicBezTo>
                  <a:pt x="13320" y="8409"/>
                  <a:pt x="13485" y="8365"/>
                  <a:pt x="13419" y="8508"/>
                </a:cubicBezTo>
                <a:cubicBezTo>
                  <a:pt x="13366" y="8535"/>
                  <a:pt x="13346" y="8547"/>
                  <a:pt x="13320" y="8582"/>
                </a:cubicBezTo>
                <a:cubicBezTo>
                  <a:pt x="13457" y="8506"/>
                  <a:pt x="13494" y="8540"/>
                  <a:pt x="13568" y="8657"/>
                </a:cubicBezTo>
                <a:cubicBezTo>
                  <a:pt x="13459" y="8756"/>
                  <a:pt x="13447" y="8749"/>
                  <a:pt x="13295" y="8731"/>
                </a:cubicBezTo>
              </a:path>
              <a:path w="6500" h="1316">
                <a:moveTo>
                  <a:pt x="12080" y="8830"/>
                </a:moveTo>
                <a:cubicBezTo>
                  <a:pt x="12080" y="8990"/>
                  <a:pt x="12135" y="8935"/>
                  <a:pt x="12278" y="8930"/>
                </a:cubicBezTo>
                <a:cubicBezTo>
                  <a:pt x="12575" y="8919"/>
                  <a:pt x="12874" y="8930"/>
                  <a:pt x="13171" y="8930"/>
                </a:cubicBezTo>
                <a:cubicBezTo>
                  <a:pt x="13171" y="8872"/>
                  <a:pt x="13171" y="8814"/>
                  <a:pt x="13171" y="8756"/>
                </a:cubicBezTo>
              </a:path>
              <a:path w="6500" h="1316">
                <a:moveTo>
                  <a:pt x="12650" y="9079"/>
                </a:moveTo>
                <a:cubicBezTo>
                  <a:pt x="12510" y="9079"/>
                  <a:pt x="12416" y="9039"/>
                  <a:pt x="12353" y="9153"/>
                </a:cubicBezTo>
                <a:cubicBezTo>
                  <a:pt x="12331" y="9242"/>
                  <a:pt x="12511" y="9166"/>
                  <a:pt x="12601" y="9203"/>
                </a:cubicBezTo>
                <a:cubicBezTo>
                  <a:pt x="12617" y="9219"/>
                  <a:pt x="12634" y="9236"/>
                  <a:pt x="12650" y="9252"/>
                </a:cubicBezTo>
                <a:cubicBezTo>
                  <a:pt x="12541" y="9426"/>
                  <a:pt x="12403" y="9392"/>
                  <a:pt x="12204" y="9376"/>
                </a:cubicBezTo>
              </a:path>
              <a:path w="6500" h="1316">
                <a:moveTo>
                  <a:pt x="13519" y="9103"/>
                </a:moveTo>
                <a:cubicBezTo>
                  <a:pt x="13570" y="9078"/>
                  <a:pt x="13630" y="9070"/>
                  <a:pt x="13692" y="9054"/>
                </a:cubicBezTo>
              </a:path>
              <a:path w="6500" h="1316">
                <a:moveTo>
                  <a:pt x="13494" y="9203"/>
                </a:moveTo>
                <a:cubicBezTo>
                  <a:pt x="13590" y="9196"/>
                  <a:pt x="13673" y="9177"/>
                  <a:pt x="13767" y="9153"/>
                </a:cubicBezTo>
              </a:path>
              <a:path w="6500" h="1316">
                <a:moveTo>
                  <a:pt x="14734" y="8632"/>
                </a:moveTo>
                <a:cubicBezTo>
                  <a:pt x="14795" y="8607"/>
                  <a:pt x="15012" y="8514"/>
                  <a:pt x="15056" y="8607"/>
                </a:cubicBezTo>
                <a:cubicBezTo>
                  <a:pt x="15111" y="8723"/>
                  <a:pt x="14976" y="8779"/>
                  <a:pt x="14908" y="8830"/>
                </a:cubicBezTo>
                <a:cubicBezTo>
                  <a:pt x="15026" y="8842"/>
                  <a:pt x="15070" y="8859"/>
                  <a:pt x="15156" y="8905"/>
                </a:cubicBezTo>
                <a:cubicBezTo>
                  <a:pt x="15021" y="9028"/>
                  <a:pt x="14993" y="9012"/>
                  <a:pt x="14808" y="9004"/>
                </a:cubicBezTo>
              </a:path>
              <a:path w="6500" h="1316">
                <a:moveTo>
                  <a:pt x="15255" y="8607"/>
                </a:moveTo>
                <a:cubicBezTo>
                  <a:pt x="15396" y="8593"/>
                  <a:pt x="15466" y="8568"/>
                  <a:pt x="15553" y="8706"/>
                </a:cubicBezTo>
                <a:cubicBezTo>
                  <a:pt x="15618" y="8809"/>
                  <a:pt x="15375" y="8802"/>
                  <a:pt x="15354" y="8806"/>
                </a:cubicBezTo>
                <a:cubicBezTo>
                  <a:pt x="15418" y="8815"/>
                  <a:pt x="15750" y="8887"/>
                  <a:pt x="15503" y="9004"/>
                </a:cubicBezTo>
                <a:cubicBezTo>
                  <a:pt x="15462" y="9012"/>
                  <a:pt x="15420" y="9021"/>
                  <a:pt x="15379" y="9029"/>
                </a:cubicBezTo>
              </a:path>
              <a:path w="6500" h="1316">
                <a:moveTo>
                  <a:pt x="14560" y="9054"/>
                </a:moveTo>
                <a:cubicBezTo>
                  <a:pt x="14696" y="9257"/>
                  <a:pt x="14938" y="9242"/>
                  <a:pt x="15180" y="9252"/>
                </a:cubicBezTo>
                <a:cubicBezTo>
                  <a:pt x="15452" y="9264"/>
                  <a:pt x="15860" y="9258"/>
                  <a:pt x="16073" y="9054"/>
                </a:cubicBezTo>
                <a:cubicBezTo>
                  <a:pt x="16241" y="8893"/>
                  <a:pt x="16215" y="8541"/>
                  <a:pt x="16049" y="8384"/>
                </a:cubicBezTo>
                <a:cubicBezTo>
                  <a:pt x="15823" y="8170"/>
                  <a:pt x="15390" y="8059"/>
                  <a:pt x="15081" y="8086"/>
                </a:cubicBezTo>
                <a:cubicBezTo>
                  <a:pt x="14812" y="8110"/>
                  <a:pt x="14471" y="8362"/>
                  <a:pt x="14362" y="8607"/>
                </a:cubicBezTo>
                <a:cubicBezTo>
                  <a:pt x="14247" y="8866"/>
                  <a:pt x="14489" y="9075"/>
                  <a:pt x="14709" y="9153"/>
                </a:cubicBezTo>
                <a:cubicBezTo>
                  <a:pt x="14859" y="9175"/>
                  <a:pt x="14893" y="9189"/>
                  <a:pt x="14982" y="91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79920" y="3268800"/>
            <a:ext cx="258840" cy="115920"/>
          </a:xfrm>
          <a:custGeom>
            <a:avLst/>
            <a:gdLst/>
            <a:ahLst/>
            <a:rect l="l" t="t" r="r" b="b"/>
            <a:pathLst>
              <a:path w="720" h="323">
                <a:moveTo>
                  <a:pt x="10368" y="9079"/>
                </a:moveTo>
                <a:cubicBezTo>
                  <a:pt x="10538" y="9128"/>
                  <a:pt x="10632" y="9228"/>
                  <a:pt x="10418" y="9351"/>
                </a:cubicBezTo>
                <a:cubicBezTo>
                  <a:pt x="10319" y="9376"/>
                  <a:pt x="10286" y="9384"/>
                  <a:pt x="10220" y="9351"/>
                </a:cubicBezTo>
                <a:cubicBezTo>
                  <a:pt x="10220" y="9326"/>
                  <a:pt x="10220" y="9302"/>
                  <a:pt x="10220" y="9277"/>
                </a:cubicBezTo>
                <a:cubicBezTo>
                  <a:pt x="10366" y="9210"/>
                  <a:pt x="10451" y="9260"/>
                  <a:pt x="10567" y="9376"/>
                </a:cubicBezTo>
              </a:path>
              <a:path w="720" h="323">
                <a:moveTo>
                  <a:pt x="10914" y="9128"/>
                </a:moveTo>
                <a:cubicBezTo>
                  <a:pt x="10834" y="9137"/>
                  <a:pt x="10779" y="9152"/>
                  <a:pt x="10716" y="9203"/>
                </a:cubicBezTo>
                <a:cubicBezTo>
                  <a:pt x="10794" y="9251"/>
                  <a:pt x="10868" y="9295"/>
                  <a:pt x="10939" y="9351"/>
                </a:cubicBezTo>
                <a:cubicBezTo>
                  <a:pt x="10738" y="9428"/>
                  <a:pt x="10774" y="9370"/>
                  <a:pt x="10840" y="9203"/>
                </a:cubicBezTo>
                <a:cubicBezTo>
                  <a:pt x="10848" y="9178"/>
                  <a:pt x="10856" y="9153"/>
                  <a:pt x="10864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7040" y="3286080"/>
            <a:ext cx="98280" cy="8892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11336" y="9128"/>
                </a:moveTo>
                <a:cubicBezTo>
                  <a:pt x="11351" y="9219"/>
                  <a:pt x="11361" y="9286"/>
                  <a:pt x="11361" y="9376"/>
                </a:cubicBezTo>
              </a:path>
              <a:path w="274" h="249">
                <a:moveTo>
                  <a:pt x="11212" y="9227"/>
                </a:moveTo>
                <a:cubicBezTo>
                  <a:pt x="11303" y="9227"/>
                  <a:pt x="11394" y="9227"/>
                  <a:pt x="11485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38920" y="6018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495" y="16718"/>
                </a:moveTo>
                <a:lnTo>
                  <a:pt x="16495" y="1671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34120" y="4714920"/>
            <a:ext cx="554040" cy="473040"/>
          </a:xfrm>
          <a:custGeom>
            <a:avLst/>
            <a:gdLst/>
            <a:ahLst/>
            <a:rect l="l" t="t" r="r" b="b"/>
            <a:pathLst>
              <a:path w="1539" h="1316">
                <a:moveTo>
                  <a:pt x="19819" y="13494"/>
                </a:moveTo>
                <a:cubicBezTo>
                  <a:pt x="19953" y="13715"/>
                  <a:pt x="20057" y="13944"/>
                  <a:pt x="20191" y="14163"/>
                </a:cubicBezTo>
                <a:cubicBezTo>
                  <a:pt x="20229" y="14220"/>
                  <a:pt x="20246" y="14223"/>
                  <a:pt x="20241" y="14263"/>
                </a:cubicBezTo>
              </a:path>
              <a:path w="1539" h="1316">
                <a:moveTo>
                  <a:pt x="20265" y="13320"/>
                </a:moveTo>
                <a:cubicBezTo>
                  <a:pt x="20162" y="13631"/>
                  <a:pt x="20063" y="13933"/>
                  <a:pt x="19943" y="14238"/>
                </a:cubicBezTo>
                <a:cubicBezTo>
                  <a:pt x="19935" y="14263"/>
                  <a:pt x="19926" y="14287"/>
                  <a:pt x="19918" y="14312"/>
                </a:cubicBezTo>
              </a:path>
              <a:path w="1539" h="1316">
                <a:moveTo>
                  <a:pt x="20588" y="13146"/>
                </a:moveTo>
                <a:cubicBezTo>
                  <a:pt x="20765" y="13146"/>
                  <a:pt x="20933" y="13142"/>
                  <a:pt x="21109" y="13122"/>
                </a:cubicBezTo>
                <a:cubicBezTo>
                  <a:pt x="21249" y="13102"/>
                  <a:pt x="21273" y="13093"/>
                  <a:pt x="21357" y="13097"/>
                </a:cubicBezTo>
                <a:cubicBezTo>
                  <a:pt x="21293" y="13466"/>
                  <a:pt x="21143" y="13824"/>
                  <a:pt x="21034" y="14188"/>
                </a:cubicBezTo>
                <a:cubicBezTo>
                  <a:pt x="20997" y="14320"/>
                  <a:pt x="20980" y="14334"/>
                  <a:pt x="20985" y="144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the express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4 + 1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x        x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the algebraic express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number x increased by 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73720" y="1803240"/>
            <a:ext cx="179280" cy="250920"/>
          </a:xfrm>
          <a:custGeom>
            <a:avLst/>
            <a:gdLst/>
            <a:ahLst/>
            <a:rect l="l" t="t" r="r" b="b"/>
            <a:pathLst>
              <a:path w="497" h="695">
                <a:moveTo>
                  <a:pt x="12526" y="5085"/>
                </a:moveTo>
                <a:cubicBezTo>
                  <a:pt x="12609" y="5040"/>
                  <a:pt x="12655" y="5020"/>
                  <a:pt x="12750" y="5011"/>
                </a:cubicBezTo>
                <a:cubicBezTo>
                  <a:pt x="12810" y="5117"/>
                  <a:pt x="12802" y="5168"/>
                  <a:pt x="12700" y="5259"/>
                </a:cubicBezTo>
                <a:cubicBezTo>
                  <a:pt x="12683" y="5267"/>
                  <a:pt x="12667" y="5275"/>
                  <a:pt x="12650" y="5283"/>
                </a:cubicBezTo>
                <a:cubicBezTo>
                  <a:pt x="12764" y="5234"/>
                  <a:pt x="12874" y="5224"/>
                  <a:pt x="12923" y="5383"/>
                </a:cubicBezTo>
                <a:cubicBezTo>
                  <a:pt x="12985" y="5584"/>
                  <a:pt x="12792" y="5680"/>
                  <a:pt x="12626" y="5680"/>
                </a:cubicBezTo>
                <a:cubicBezTo>
                  <a:pt x="12520" y="5659"/>
                  <a:pt x="12493" y="5664"/>
                  <a:pt x="12452" y="5606"/>
                </a:cubicBezTo>
                <a:cubicBezTo>
                  <a:pt x="12466" y="5592"/>
                  <a:pt x="12545" y="5655"/>
                  <a:pt x="12626" y="57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40120" y="2232000"/>
            <a:ext cx="482760" cy="304920"/>
          </a:xfrm>
          <a:custGeom>
            <a:avLst/>
            <a:gdLst/>
            <a:ahLst/>
            <a:rect l="l" t="t" r="r" b="b"/>
            <a:pathLst>
              <a:path w="1340" h="845">
                <a:moveTo>
                  <a:pt x="10666" y="6251"/>
                </a:moveTo>
                <a:cubicBezTo>
                  <a:pt x="10685" y="6307"/>
                  <a:pt x="10678" y="6416"/>
                  <a:pt x="10740" y="6449"/>
                </a:cubicBezTo>
                <a:cubicBezTo>
                  <a:pt x="10875" y="6520"/>
                  <a:pt x="11172" y="6411"/>
                  <a:pt x="11311" y="6375"/>
                </a:cubicBezTo>
                <a:cubicBezTo>
                  <a:pt x="11490" y="6329"/>
                  <a:pt x="11621" y="6270"/>
                  <a:pt x="11807" y="6325"/>
                </a:cubicBezTo>
                <a:cubicBezTo>
                  <a:pt x="11891" y="6350"/>
                  <a:pt x="11935" y="6383"/>
                  <a:pt x="11981" y="6300"/>
                </a:cubicBezTo>
                <a:cubicBezTo>
                  <a:pt x="12004" y="6252"/>
                  <a:pt x="12012" y="6238"/>
                  <a:pt x="12005" y="6201"/>
                </a:cubicBezTo>
              </a:path>
              <a:path w="1340" h="845">
                <a:moveTo>
                  <a:pt x="11237" y="6648"/>
                </a:moveTo>
                <a:cubicBezTo>
                  <a:pt x="11216" y="6696"/>
                  <a:pt x="11208" y="6748"/>
                  <a:pt x="11187" y="6796"/>
                </a:cubicBezTo>
                <a:cubicBezTo>
                  <a:pt x="11294" y="6813"/>
                  <a:pt x="11350" y="6799"/>
                  <a:pt x="11460" y="6772"/>
                </a:cubicBezTo>
              </a:path>
              <a:path w="1340" h="845">
                <a:moveTo>
                  <a:pt x="11485" y="6598"/>
                </a:moveTo>
                <a:cubicBezTo>
                  <a:pt x="11452" y="6728"/>
                  <a:pt x="11405" y="6859"/>
                  <a:pt x="11385" y="6995"/>
                </a:cubicBezTo>
                <a:cubicBezTo>
                  <a:pt x="11385" y="7012"/>
                  <a:pt x="11385" y="7028"/>
                  <a:pt x="11385" y="70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60800" y="2394000"/>
            <a:ext cx="438120" cy="169920"/>
          </a:xfrm>
          <a:custGeom>
            <a:avLst/>
            <a:gdLst/>
            <a:ahLst/>
            <a:rect l="l" t="t" r="r" b="b"/>
            <a:pathLst>
              <a:path w="1216" h="472">
                <a:moveTo>
                  <a:pt x="8781" y="6722"/>
                </a:moveTo>
                <a:cubicBezTo>
                  <a:pt x="8808" y="6846"/>
                  <a:pt x="8806" y="6965"/>
                  <a:pt x="8806" y="7094"/>
                </a:cubicBezTo>
                <a:cubicBezTo>
                  <a:pt x="8806" y="7102"/>
                  <a:pt x="8806" y="7111"/>
                  <a:pt x="8806" y="7119"/>
                </a:cubicBezTo>
              </a:path>
              <a:path w="1216" h="472">
                <a:moveTo>
                  <a:pt x="8954" y="6796"/>
                </a:moveTo>
                <a:cubicBezTo>
                  <a:pt x="8935" y="6874"/>
                  <a:pt x="8943" y="6892"/>
                  <a:pt x="8905" y="6921"/>
                </a:cubicBezTo>
                <a:cubicBezTo>
                  <a:pt x="9014" y="6942"/>
                  <a:pt x="9048" y="6947"/>
                  <a:pt x="9153" y="6921"/>
                </a:cubicBezTo>
              </a:path>
              <a:path w="1216" h="472">
                <a:moveTo>
                  <a:pt x="9203" y="6648"/>
                </a:moveTo>
                <a:cubicBezTo>
                  <a:pt x="9183" y="6808"/>
                  <a:pt x="9178" y="6958"/>
                  <a:pt x="9178" y="7119"/>
                </a:cubicBezTo>
              </a:path>
              <a:path w="1216" h="472">
                <a:moveTo>
                  <a:pt x="9823" y="6821"/>
                </a:moveTo>
                <a:cubicBezTo>
                  <a:pt x="9823" y="6919"/>
                  <a:pt x="9814" y="7004"/>
                  <a:pt x="9847" y="7094"/>
                </a:cubicBezTo>
              </a:path>
              <a:path w="1216" h="472">
                <a:moveTo>
                  <a:pt x="9748" y="6970"/>
                </a:moveTo>
                <a:cubicBezTo>
                  <a:pt x="9832" y="6955"/>
                  <a:pt x="9911" y="6933"/>
                  <a:pt x="9996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438280"/>
            <a:ext cx="90360" cy="5400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12278" y="6772"/>
                </a:moveTo>
                <a:cubicBezTo>
                  <a:pt x="12344" y="6772"/>
                  <a:pt x="12411" y="6772"/>
                  <a:pt x="12477" y="6772"/>
                </a:cubicBezTo>
              </a:path>
              <a:path w="249" h="150">
                <a:moveTo>
                  <a:pt x="12278" y="6921"/>
                </a:moveTo>
                <a:cubicBezTo>
                  <a:pt x="12376" y="6914"/>
                  <a:pt x="12433" y="6902"/>
                  <a:pt x="12526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70280" y="2367000"/>
            <a:ext cx="9720" cy="150840"/>
          </a:xfrm>
          <a:custGeom>
            <a:avLst/>
            <a:gdLst/>
            <a:ahLst/>
            <a:rect l="l" t="t" r="r" b="b"/>
            <a:pathLst>
              <a:path w="26" h="423">
                <a:moveTo>
                  <a:pt x="12998" y="6573"/>
                </a:moveTo>
                <a:cubicBezTo>
                  <a:pt x="12984" y="6718"/>
                  <a:pt x="12988" y="6850"/>
                  <a:pt x="12973" y="69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86200" y="2295360"/>
            <a:ext cx="125640" cy="177840"/>
          </a:xfrm>
          <a:custGeom>
            <a:avLst/>
            <a:gdLst/>
            <a:ahLst/>
            <a:rect l="l" t="t" r="r" b="b"/>
            <a:pathLst>
              <a:path w="349" h="497">
                <a:moveTo>
                  <a:pt x="13568" y="6400"/>
                </a:moveTo>
                <a:cubicBezTo>
                  <a:pt x="13407" y="6434"/>
                  <a:pt x="13369" y="6476"/>
                  <a:pt x="13295" y="6623"/>
                </a:cubicBezTo>
                <a:cubicBezTo>
                  <a:pt x="13343" y="6634"/>
                  <a:pt x="13678" y="6674"/>
                  <a:pt x="13643" y="6772"/>
                </a:cubicBezTo>
                <a:cubicBezTo>
                  <a:pt x="13574" y="6840"/>
                  <a:pt x="13558" y="6861"/>
                  <a:pt x="13494" y="6871"/>
                </a:cubicBezTo>
                <a:cubicBezTo>
                  <a:pt x="13464" y="6691"/>
                  <a:pt x="13479" y="6553"/>
                  <a:pt x="13519" y="63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14760" y="249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541" y="6921"/>
                </a:moveTo>
                <a:lnTo>
                  <a:pt x="7541" y="692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90880" y="3463920"/>
            <a:ext cx="189000" cy="277920"/>
          </a:xfrm>
          <a:custGeom>
            <a:avLst/>
            <a:gdLst/>
            <a:ahLst/>
            <a:rect l="l" t="t" r="r" b="b"/>
            <a:pathLst>
              <a:path w="521" h="770">
                <a:moveTo>
                  <a:pt x="8310" y="9847"/>
                </a:moveTo>
                <a:cubicBezTo>
                  <a:pt x="8416" y="10027"/>
                  <a:pt x="8517" y="10196"/>
                  <a:pt x="8582" y="10393"/>
                </a:cubicBezTo>
              </a:path>
              <a:path w="521" h="770">
                <a:moveTo>
                  <a:pt x="8830" y="9624"/>
                </a:moveTo>
                <a:cubicBezTo>
                  <a:pt x="8651" y="9843"/>
                  <a:pt x="8535" y="10097"/>
                  <a:pt x="8359" y="10319"/>
                </a:cubicBezTo>
                <a:cubicBezTo>
                  <a:pt x="8343" y="10335"/>
                  <a:pt x="8326" y="10352"/>
                  <a:pt x="8310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48120" y="3490920"/>
            <a:ext cx="312840" cy="233280"/>
          </a:xfrm>
          <a:custGeom>
            <a:avLst/>
            <a:gdLst/>
            <a:ahLst/>
            <a:rect l="l" t="t" r="r" b="b"/>
            <a:pathLst>
              <a:path w="869" h="646">
                <a:moveTo>
                  <a:pt x="13866" y="9699"/>
                </a:moveTo>
                <a:cubicBezTo>
                  <a:pt x="13880" y="9928"/>
                  <a:pt x="13876" y="10121"/>
                  <a:pt x="13816" y="10344"/>
                </a:cubicBezTo>
              </a:path>
              <a:path w="869" h="646">
                <a:moveTo>
                  <a:pt x="13469" y="9996"/>
                </a:moveTo>
                <a:cubicBezTo>
                  <a:pt x="13758" y="9967"/>
                  <a:pt x="14048" y="9952"/>
                  <a:pt x="14337" y="99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83080" y="4133880"/>
            <a:ext cx="866880" cy="250920"/>
          </a:xfrm>
          <a:custGeom>
            <a:avLst/>
            <a:gdLst/>
            <a:ahLst/>
            <a:rect l="l" t="t" r="r" b="b"/>
            <a:pathLst>
              <a:path w="2407" h="695">
                <a:moveTo>
                  <a:pt x="12526" y="11534"/>
                </a:moveTo>
                <a:cubicBezTo>
                  <a:pt x="12629" y="11746"/>
                  <a:pt x="12728" y="11955"/>
                  <a:pt x="12799" y="12179"/>
                </a:cubicBezTo>
              </a:path>
              <a:path w="2407" h="695">
                <a:moveTo>
                  <a:pt x="12973" y="11485"/>
                </a:moveTo>
                <a:cubicBezTo>
                  <a:pt x="12784" y="11664"/>
                  <a:pt x="12631" y="11871"/>
                  <a:pt x="12477" y="12080"/>
                </a:cubicBezTo>
                <a:cubicBezTo>
                  <a:pt x="12469" y="12096"/>
                  <a:pt x="12460" y="12113"/>
                  <a:pt x="12452" y="12129"/>
                </a:cubicBezTo>
              </a:path>
              <a:path w="2407" h="695">
                <a:moveTo>
                  <a:pt x="13345" y="11534"/>
                </a:moveTo>
                <a:cubicBezTo>
                  <a:pt x="13326" y="11733"/>
                  <a:pt x="13312" y="11931"/>
                  <a:pt x="13295" y="12129"/>
                </a:cubicBezTo>
              </a:path>
              <a:path w="2407" h="695">
                <a:moveTo>
                  <a:pt x="13171" y="11832"/>
                </a:moveTo>
                <a:cubicBezTo>
                  <a:pt x="13269" y="11766"/>
                  <a:pt x="13322" y="11746"/>
                  <a:pt x="13419" y="11757"/>
                </a:cubicBezTo>
              </a:path>
              <a:path w="2407" h="695">
                <a:moveTo>
                  <a:pt x="13841" y="11584"/>
                </a:moveTo>
                <a:cubicBezTo>
                  <a:pt x="13951" y="11571"/>
                  <a:pt x="14243" y="11600"/>
                  <a:pt x="14039" y="11782"/>
                </a:cubicBezTo>
                <a:cubicBezTo>
                  <a:pt x="13990" y="11807"/>
                  <a:pt x="13940" y="11832"/>
                  <a:pt x="13891" y="11857"/>
                </a:cubicBezTo>
                <a:cubicBezTo>
                  <a:pt x="13858" y="11865"/>
                  <a:pt x="13824" y="11873"/>
                  <a:pt x="13791" y="11881"/>
                </a:cubicBezTo>
                <a:cubicBezTo>
                  <a:pt x="13904" y="11872"/>
                  <a:pt x="14428" y="11866"/>
                  <a:pt x="14139" y="12105"/>
                </a:cubicBezTo>
                <a:cubicBezTo>
                  <a:pt x="13968" y="12246"/>
                  <a:pt x="13831" y="12171"/>
                  <a:pt x="13667" y="12105"/>
                </a:cubicBezTo>
              </a:path>
              <a:path w="2407" h="695">
                <a:moveTo>
                  <a:pt x="14536" y="11534"/>
                </a:moveTo>
                <a:cubicBezTo>
                  <a:pt x="14471" y="11669"/>
                  <a:pt x="14264" y="12088"/>
                  <a:pt x="14560" y="12154"/>
                </a:cubicBezTo>
                <a:cubicBezTo>
                  <a:pt x="14997" y="12251"/>
                  <a:pt x="14806" y="11810"/>
                  <a:pt x="14709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97800" y="3446640"/>
            <a:ext cx="339480" cy="206280"/>
          </a:xfrm>
          <a:custGeom>
            <a:avLst/>
            <a:gdLst/>
            <a:ahLst/>
            <a:rect l="l" t="t" r="r" b="b"/>
            <a:pathLst>
              <a:path w="943" h="571">
                <a:moveTo>
                  <a:pt x="18777" y="9649"/>
                </a:moveTo>
                <a:cubicBezTo>
                  <a:pt x="18848" y="9604"/>
                  <a:pt x="19112" y="9512"/>
                  <a:pt x="19025" y="9723"/>
                </a:cubicBezTo>
                <a:cubicBezTo>
                  <a:pt x="18942" y="9807"/>
                  <a:pt x="18906" y="9839"/>
                  <a:pt x="18827" y="9872"/>
                </a:cubicBezTo>
                <a:cubicBezTo>
                  <a:pt x="18810" y="9872"/>
                  <a:pt x="18794" y="9872"/>
                  <a:pt x="18777" y="9872"/>
                </a:cubicBezTo>
                <a:cubicBezTo>
                  <a:pt x="18950" y="9888"/>
                  <a:pt x="19185" y="9978"/>
                  <a:pt x="18876" y="10120"/>
                </a:cubicBezTo>
                <a:cubicBezTo>
                  <a:pt x="18736" y="10144"/>
                  <a:pt x="18694" y="10154"/>
                  <a:pt x="18604" y="10120"/>
                </a:cubicBezTo>
              </a:path>
              <a:path w="943" h="571">
                <a:moveTo>
                  <a:pt x="19298" y="9674"/>
                </a:moveTo>
                <a:cubicBezTo>
                  <a:pt x="19150" y="9861"/>
                  <a:pt x="19140" y="9856"/>
                  <a:pt x="19199" y="10071"/>
                </a:cubicBezTo>
                <a:cubicBezTo>
                  <a:pt x="19363" y="10110"/>
                  <a:pt x="19716" y="10069"/>
                  <a:pt x="19546" y="9773"/>
                </a:cubicBezTo>
                <a:cubicBezTo>
                  <a:pt x="19496" y="9740"/>
                  <a:pt x="19447" y="9707"/>
                  <a:pt x="19397" y="96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the algebraic express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een subtracted from a number 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missing num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12, 128, 32, 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47880" y="1758960"/>
            <a:ext cx="277920" cy="223920"/>
          </a:xfrm>
          <a:custGeom>
            <a:avLst/>
            <a:gdLst/>
            <a:ahLst/>
            <a:rect l="l" t="t" r="r" b="b"/>
            <a:pathLst>
              <a:path w="770" h="621">
                <a:moveTo>
                  <a:pt x="5135" y="5035"/>
                </a:moveTo>
                <a:cubicBezTo>
                  <a:pt x="5155" y="5193"/>
                  <a:pt x="5176" y="5348"/>
                  <a:pt x="5184" y="5507"/>
                </a:cubicBezTo>
              </a:path>
              <a:path w="770" h="621">
                <a:moveTo>
                  <a:pt x="5904" y="4887"/>
                </a:moveTo>
                <a:cubicBezTo>
                  <a:pt x="5822" y="4919"/>
                  <a:pt x="5563" y="4935"/>
                  <a:pt x="5507" y="4986"/>
                </a:cubicBezTo>
                <a:cubicBezTo>
                  <a:pt x="5476" y="5015"/>
                  <a:pt x="5485" y="5192"/>
                  <a:pt x="5482" y="5234"/>
                </a:cubicBezTo>
                <a:cubicBezTo>
                  <a:pt x="5605" y="5196"/>
                  <a:pt x="5767" y="5128"/>
                  <a:pt x="5879" y="5234"/>
                </a:cubicBezTo>
                <a:cubicBezTo>
                  <a:pt x="5887" y="5259"/>
                  <a:pt x="5896" y="5283"/>
                  <a:pt x="5904" y="5308"/>
                </a:cubicBezTo>
                <a:cubicBezTo>
                  <a:pt x="5836" y="5470"/>
                  <a:pt x="5738" y="5481"/>
                  <a:pt x="5556" y="54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59120" y="1857240"/>
            <a:ext cx="241560" cy="17640"/>
          </a:xfrm>
          <a:custGeom>
            <a:avLst/>
            <a:gdLst/>
            <a:ahLst/>
            <a:rect l="l" t="t" r="r" b="b"/>
            <a:pathLst>
              <a:path w="670" h="51">
                <a:moveTo>
                  <a:pt x="10468" y="5209"/>
                </a:moveTo>
                <a:cubicBezTo>
                  <a:pt x="10429" y="5209"/>
                  <a:pt x="10771" y="5162"/>
                  <a:pt x="10815" y="5159"/>
                </a:cubicBezTo>
                <a:cubicBezTo>
                  <a:pt x="10912" y="5153"/>
                  <a:pt x="11014" y="5159"/>
                  <a:pt x="11112" y="51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45160" y="1768320"/>
            <a:ext cx="189000" cy="160560"/>
          </a:xfrm>
          <a:custGeom>
            <a:avLst/>
            <a:gdLst/>
            <a:ahLst/>
            <a:rect l="l" t="t" r="r" b="b"/>
            <a:pathLst>
              <a:path w="522" h="448">
                <a:moveTo>
                  <a:pt x="18231" y="4936"/>
                </a:moveTo>
                <a:cubicBezTo>
                  <a:pt x="18351" y="5042"/>
                  <a:pt x="18414" y="5196"/>
                  <a:pt x="18504" y="5333"/>
                </a:cubicBezTo>
                <a:cubicBezTo>
                  <a:pt x="18512" y="5341"/>
                  <a:pt x="18521" y="5350"/>
                  <a:pt x="18529" y="5358"/>
                </a:cubicBezTo>
              </a:path>
              <a:path w="522" h="448">
                <a:moveTo>
                  <a:pt x="18703" y="4911"/>
                </a:moveTo>
                <a:cubicBezTo>
                  <a:pt x="18532" y="5062"/>
                  <a:pt x="18357" y="5211"/>
                  <a:pt x="18182" y="53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48120" y="2259000"/>
            <a:ext cx="804960" cy="27000"/>
          </a:xfrm>
          <a:custGeom>
            <a:avLst/>
            <a:gdLst/>
            <a:ahLst/>
            <a:rect l="l" t="t" r="r" b="b"/>
            <a:pathLst>
              <a:path w="2233" h="75">
                <a:moveTo>
                  <a:pt x="13469" y="6276"/>
                </a:moveTo>
                <a:cubicBezTo>
                  <a:pt x="13555" y="6276"/>
                  <a:pt x="13589" y="6309"/>
                  <a:pt x="13667" y="6325"/>
                </a:cubicBezTo>
                <a:cubicBezTo>
                  <a:pt x="13742" y="6340"/>
                  <a:pt x="13813" y="6347"/>
                  <a:pt x="13891" y="6350"/>
                </a:cubicBezTo>
                <a:cubicBezTo>
                  <a:pt x="14021" y="6355"/>
                  <a:pt x="14138" y="6343"/>
                  <a:pt x="14263" y="6325"/>
                </a:cubicBezTo>
                <a:cubicBezTo>
                  <a:pt x="14391" y="6306"/>
                  <a:pt x="14532" y="6314"/>
                  <a:pt x="14660" y="6300"/>
                </a:cubicBezTo>
                <a:cubicBezTo>
                  <a:pt x="14758" y="6289"/>
                  <a:pt x="14859" y="6280"/>
                  <a:pt x="14957" y="6276"/>
                </a:cubicBezTo>
                <a:cubicBezTo>
                  <a:pt x="15069" y="6271"/>
                  <a:pt x="15171" y="6291"/>
                  <a:pt x="15280" y="6300"/>
                </a:cubicBezTo>
                <a:cubicBezTo>
                  <a:pt x="15374" y="6308"/>
                  <a:pt x="15460" y="6280"/>
                  <a:pt x="15553" y="6276"/>
                </a:cubicBezTo>
                <a:cubicBezTo>
                  <a:pt x="15613" y="6273"/>
                  <a:pt x="15651" y="6282"/>
                  <a:pt x="15701" y="63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13320" y="2276640"/>
            <a:ext cx="1231920" cy="331560"/>
          </a:xfrm>
          <a:custGeom>
            <a:avLst/>
            <a:gdLst/>
            <a:ahLst/>
            <a:rect l="l" t="t" r="r" b="b"/>
            <a:pathLst>
              <a:path w="3424" h="919">
                <a:moveTo>
                  <a:pt x="17537" y="6573"/>
                </a:moveTo>
                <a:cubicBezTo>
                  <a:pt x="17653" y="6585"/>
                  <a:pt x="17731" y="6648"/>
                  <a:pt x="17810" y="6747"/>
                </a:cubicBezTo>
                <a:cubicBezTo>
                  <a:pt x="17935" y="6905"/>
                  <a:pt x="18066" y="7046"/>
                  <a:pt x="18207" y="7193"/>
                </a:cubicBezTo>
                <a:cubicBezTo>
                  <a:pt x="18245" y="7232"/>
                  <a:pt x="18247" y="7249"/>
                  <a:pt x="18281" y="7243"/>
                </a:cubicBezTo>
              </a:path>
              <a:path w="3424" h="919">
                <a:moveTo>
                  <a:pt x="18355" y="6499"/>
                </a:moveTo>
                <a:cubicBezTo>
                  <a:pt x="18219" y="6575"/>
                  <a:pt x="18135" y="6653"/>
                  <a:pt x="18033" y="6772"/>
                </a:cubicBezTo>
                <a:cubicBezTo>
                  <a:pt x="17918" y="6906"/>
                  <a:pt x="17811" y="7044"/>
                  <a:pt x="17686" y="7169"/>
                </a:cubicBezTo>
              </a:path>
              <a:path w="3424" h="919">
                <a:moveTo>
                  <a:pt x="18926" y="6747"/>
                </a:moveTo>
                <a:cubicBezTo>
                  <a:pt x="19031" y="6762"/>
                  <a:pt x="19117" y="6793"/>
                  <a:pt x="19224" y="6796"/>
                </a:cubicBezTo>
                <a:cubicBezTo>
                  <a:pt x="19292" y="6796"/>
                  <a:pt x="19311" y="6793"/>
                  <a:pt x="19348" y="6821"/>
                </a:cubicBezTo>
              </a:path>
              <a:path w="3424" h="919">
                <a:moveTo>
                  <a:pt x="20141" y="6449"/>
                </a:moveTo>
                <a:cubicBezTo>
                  <a:pt x="20141" y="6632"/>
                  <a:pt x="20108" y="6714"/>
                  <a:pt x="20092" y="6896"/>
                </a:cubicBezTo>
                <a:cubicBezTo>
                  <a:pt x="20092" y="6981"/>
                  <a:pt x="20098" y="7001"/>
                  <a:pt x="20067" y="7045"/>
                </a:cubicBezTo>
              </a:path>
              <a:path w="3424" h="919">
                <a:moveTo>
                  <a:pt x="20960" y="6325"/>
                </a:moveTo>
                <a:cubicBezTo>
                  <a:pt x="20849" y="6342"/>
                  <a:pt x="20750" y="6350"/>
                  <a:pt x="20638" y="6350"/>
                </a:cubicBezTo>
                <a:cubicBezTo>
                  <a:pt x="20524" y="6350"/>
                  <a:pt x="20490" y="6460"/>
                  <a:pt x="20464" y="6548"/>
                </a:cubicBezTo>
                <a:cubicBezTo>
                  <a:pt x="20464" y="6556"/>
                  <a:pt x="20464" y="6565"/>
                  <a:pt x="20464" y="6573"/>
                </a:cubicBezTo>
                <a:cubicBezTo>
                  <a:pt x="20544" y="6584"/>
                  <a:pt x="20748" y="6535"/>
                  <a:pt x="20811" y="6598"/>
                </a:cubicBezTo>
                <a:cubicBezTo>
                  <a:pt x="20852" y="6639"/>
                  <a:pt x="20910" y="6851"/>
                  <a:pt x="20836" y="6896"/>
                </a:cubicBezTo>
                <a:cubicBezTo>
                  <a:pt x="20724" y="6964"/>
                  <a:pt x="20595" y="6874"/>
                  <a:pt x="20489" y="6846"/>
                </a:cubicBezTo>
                <a:cubicBezTo>
                  <a:pt x="20481" y="6846"/>
                  <a:pt x="20472" y="6846"/>
                  <a:pt x="20464" y="68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3697200"/>
            <a:ext cx="187200" cy="258840"/>
          </a:xfrm>
          <a:custGeom>
            <a:avLst/>
            <a:gdLst/>
            <a:ahLst/>
            <a:rect l="l" t="t" r="r" b="b"/>
            <a:pathLst>
              <a:path w="522" h="720">
                <a:moveTo>
                  <a:pt x="16396" y="10269"/>
                </a:moveTo>
                <a:cubicBezTo>
                  <a:pt x="16258" y="10312"/>
                  <a:pt x="16071" y="10341"/>
                  <a:pt x="15949" y="10418"/>
                </a:cubicBezTo>
                <a:cubicBezTo>
                  <a:pt x="15924" y="10443"/>
                  <a:pt x="15900" y="10467"/>
                  <a:pt x="15875" y="10492"/>
                </a:cubicBezTo>
                <a:cubicBezTo>
                  <a:pt x="16007" y="10569"/>
                  <a:pt x="16322" y="10619"/>
                  <a:pt x="16371" y="10790"/>
                </a:cubicBezTo>
                <a:cubicBezTo>
                  <a:pt x="16412" y="10936"/>
                  <a:pt x="16251" y="10961"/>
                  <a:pt x="16173" y="10988"/>
                </a:cubicBezTo>
                <a:cubicBezTo>
                  <a:pt x="16016" y="10857"/>
                  <a:pt x="16019" y="10728"/>
                  <a:pt x="16098" y="10517"/>
                </a:cubicBezTo>
                <a:cubicBezTo>
                  <a:pt x="16147" y="10386"/>
                  <a:pt x="16191" y="10339"/>
                  <a:pt x="16297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54 –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+ 32   when N=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5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 + 3 x N   when 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86680" y="1554120"/>
            <a:ext cx="1696680" cy="750960"/>
          </a:xfrm>
          <a:custGeom>
            <a:avLst/>
            <a:gdLst/>
            <a:ahLst/>
            <a:rect l="l" t="t" r="r" b="b"/>
            <a:pathLst>
              <a:path w="4714" h="2085">
                <a:moveTo>
                  <a:pt x="18182" y="4440"/>
                </a:moveTo>
                <a:lnTo>
                  <a:pt x="18182" y="4440"/>
                </a:lnTo>
              </a:path>
              <a:path w="4714" h="2085">
                <a:moveTo>
                  <a:pt x="18852" y="4390"/>
                </a:moveTo>
                <a:cubicBezTo>
                  <a:pt x="18851" y="4445"/>
                  <a:pt x="18685" y="4783"/>
                  <a:pt x="18678" y="4986"/>
                </a:cubicBezTo>
                <a:cubicBezTo>
                  <a:pt x="18918" y="5017"/>
                  <a:pt x="19264" y="4921"/>
                  <a:pt x="19149" y="4564"/>
                </a:cubicBezTo>
                <a:cubicBezTo>
                  <a:pt x="19013" y="4428"/>
                  <a:pt x="18956" y="4385"/>
                  <a:pt x="18802" y="4415"/>
                </a:cubicBezTo>
              </a:path>
              <a:path w="4714" h="2085">
                <a:moveTo>
                  <a:pt x="18306" y="4341"/>
                </a:moveTo>
                <a:cubicBezTo>
                  <a:pt x="18168" y="4341"/>
                  <a:pt x="18041" y="4333"/>
                  <a:pt x="17909" y="4316"/>
                </a:cubicBezTo>
                <a:cubicBezTo>
                  <a:pt x="17760" y="4297"/>
                  <a:pt x="17772" y="4598"/>
                  <a:pt x="17760" y="4688"/>
                </a:cubicBezTo>
                <a:cubicBezTo>
                  <a:pt x="17760" y="4705"/>
                  <a:pt x="17760" y="4721"/>
                  <a:pt x="17760" y="4738"/>
                </a:cubicBezTo>
                <a:cubicBezTo>
                  <a:pt x="17898" y="4701"/>
                  <a:pt x="18256" y="4679"/>
                  <a:pt x="18256" y="4936"/>
                </a:cubicBezTo>
                <a:cubicBezTo>
                  <a:pt x="18256" y="5202"/>
                  <a:pt x="17773" y="5100"/>
                  <a:pt x="17636" y="5085"/>
                </a:cubicBezTo>
              </a:path>
              <a:path w="4714" h="2085">
                <a:moveTo>
                  <a:pt x="17462" y="5209"/>
                </a:moveTo>
                <a:cubicBezTo>
                  <a:pt x="17856" y="5248"/>
                  <a:pt x="18262" y="5269"/>
                  <a:pt x="18653" y="5333"/>
                </a:cubicBezTo>
                <a:cubicBezTo>
                  <a:pt x="18678" y="5341"/>
                  <a:pt x="18703" y="5350"/>
                  <a:pt x="18728" y="5358"/>
                </a:cubicBezTo>
              </a:path>
              <a:path w="4714" h="2085">
                <a:moveTo>
                  <a:pt x="18355" y="5804"/>
                </a:moveTo>
                <a:cubicBezTo>
                  <a:pt x="18211" y="5784"/>
                  <a:pt x="18061" y="5703"/>
                  <a:pt x="17909" y="5730"/>
                </a:cubicBezTo>
                <a:cubicBezTo>
                  <a:pt x="17823" y="5745"/>
                  <a:pt x="17859" y="6041"/>
                  <a:pt x="17859" y="6102"/>
                </a:cubicBezTo>
                <a:cubicBezTo>
                  <a:pt x="17859" y="6110"/>
                  <a:pt x="17859" y="6119"/>
                  <a:pt x="17859" y="6127"/>
                </a:cubicBezTo>
                <a:cubicBezTo>
                  <a:pt x="18030" y="6091"/>
                  <a:pt x="18319" y="5955"/>
                  <a:pt x="18430" y="6176"/>
                </a:cubicBezTo>
                <a:cubicBezTo>
                  <a:pt x="18598" y="6512"/>
                  <a:pt x="18008" y="6354"/>
                  <a:pt x="17909" y="6325"/>
                </a:cubicBezTo>
              </a:path>
              <a:path w="4714" h="2085">
                <a:moveTo>
                  <a:pt x="19521" y="5432"/>
                </a:moveTo>
                <a:cubicBezTo>
                  <a:pt x="19605" y="5432"/>
                  <a:pt x="19659" y="5443"/>
                  <a:pt x="19745" y="5457"/>
                </a:cubicBezTo>
              </a:path>
              <a:path w="4714" h="2085">
                <a:moveTo>
                  <a:pt x="19496" y="5755"/>
                </a:moveTo>
                <a:cubicBezTo>
                  <a:pt x="19546" y="5755"/>
                  <a:pt x="19595" y="5755"/>
                  <a:pt x="19645" y="5755"/>
                </a:cubicBezTo>
              </a:path>
              <a:path w="4714" h="2085">
                <a:moveTo>
                  <a:pt x="20414" y="5184"/>
                </a:moveTo>
                <a:cubicBezTo>
                  <a:pt x="20444" y="5426"/>
                  <a:pt x="20458" y="5660"/>
                  <a:pt x="20464" y="5904"/>
                </a:cubicBezTo>
              </a:path>
              <a:path w="4714" h="2085">
                <a:moveTo>
                  <a:pt x="21208" y="5110"/>
                </a:moveTo>
                <a:cubicBezTo>
                  <a:pt x="21014" y="5464"/>
                  <a:pt x="20943" y="5599"/>
                  <a:pt x="21084" y="5978"/>
                </a:cubicBezTo>
                <a:cubicBezTo>
                  <a:pt x="21360" y="5968"/>
                  <a:pt x="21669" y="5857"/>
                  <a:pt x="21580" y="5482"/>
                </a:cubicBezTo>
                <a:cubicBezTo>
                  <a:pt x="21516" y="5214"/>
                  <a:pt x="21392" y="5211"/>
                  <a:pt x="21183" y="5184"/>
                </a:cubicBezTo>
              </a:path>
              <a:path w="4714" h="2085">
                <a:moveTo>
                  <a:pt x="20241" y="6276"/>
                </a:moveTo>
                <a:cubicBezTo>
                  <a:pt x="20551" y="6468"/>
                  <a:pt x="20870" y="6386"/>
                  <a:pt x="21233" y="6300"/>
                </a:cubicBezTo>
                <a:cubicBezTo>
                  <a:pt x="21643" y="6203"/>
                  <a:pt x="22027" y="6000"/>
                  <a:pt x="22151" y="5556"/>
                </a:cubicBezTo>
                <a:cubicBezTo>
                  <a:pt x="22284" y="5078"/>
                  <a:pt x="21942" y="4717"/>
                  <a:pt x="21530" y="4539"/>
                </a:cubicBezTo>
                <a:cubicBezTo>
                  <a:pt x="21155" y="4377"/>
                  <a:pt x="20572" y="4314"/>
                  <a:pt x="20290" y="4688"/>
                </a:cubicBezTo>
                <a:cubicBezTo>
                  <a:pt x="19867" y="5249"/>
                  <a:pt x="20046" y="5764"/>
                  <a:pt x="20414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97120" y="3089160"/>
            <a:ext cx="285840" cy="250920"/>
          </a:xfrm>
          <a:custGeom>
            <a:avLst/>
            <a:gdLst/>
            <a:ahLst/>
            <a:rect l="l" t="t" r="r" b="b"/>
            <a:pathLst>
              <a:path w="795" h="696">
                <a:moveTo>
                  <a:pt x="7541" y="8657"/>
                </a:moveTo>
                <a:cubicBezTo>
                  <a:pt x="7521" y="8864"/>
                  <a:pt x="7505" y="9070"/>
                  <a:pt x="7491" y="9277"/>
                </a:cubicBezTo>
              </a:path>
              <a:path w="795" h="696">
                <a:moveTo>
                  <a:pt x="7863" y="8632"/>
                </a:moveTo>
                <a:cubicBezTo>
                  <a:pt x="8016" y="8571"/>
                  <a:pt x="8117" y="8574"/>
                  <a:pt x="8186" y="8756"/>
                </a:cubicBezTo>
                <a:cubicBezTo>
                  <a:pt x="8273" y="8984"/>
                  <a:pt x="8034" y="9176"/>
                  <a:pt x="7813" y="9153"/>
                </a:cubicBezTo>
                <a:cubicBezTo>
                  <a:pt x="7786" y="9097"/>
                  <a:pt x="7778" y="9075"/>
                  <a:pt x="7789" y="9029"/>
                </a:cubicBezTo>
                <a:cubicBezTo>
                  <a:pt x="7941" y="8927"/>
                  <a:pt x="8062" y="8895"/>
                  <a:pt x="8235" y="9004"/>
                </a:cubicBezTo>
                <a:cubicBezTo>
                  <a:pt x="8280" y="9049"/>
                  <a:pt x="8297" y="9058"/>
                  <a:pt x="8285" y="91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32080" y="2867040"/>
            <a:ext cx="1519200" cy="581040"/>
          </a:xfrm>
          <a:custGeom>
            <a:avLst/>
            <a:gdLst/>
            <a:ahLst/>
            <a:rect l="l" t="t" r="r" b="b"/>
            <a:pathLst>
              <a:path w="4218" h="1614">
                <a:moveTo>
                  <a:pt x="9103" y="8731"/>
                </a:moveTo>
                <a:cubicBezTo>
                  <a:pt x="9068" y="8883"/>
                  <a:pt x="9144" y="8976"/>
                  <a:pt x="9178" y="9128"/>
                </a:cubicBezTo>
              </a:path>
              <a:path w="4218" h="1614">
                <a:moveTo>
                  <a:pt x="8979" y="8930"/>
                </a:moveTo>
                <a:cubicBezTo>
                  <a:pt x="9137" y="8907"/>
                  <a:pt x="9294" y="8884"/>
                  <a:pt x="9451" y="8855"/>
                </a:cubicBezTo>
              </a:path>
              <a:path w="4218" h="1614">
                <a:moveTo>
                  <a:pt x="9723" y="8607"/>
                </a:moveTo>
                <a:cubicBezTo>
                  <a:pt x="9865" y="8533"/>
                  <a:pt x="9870" y="8494"/>
                  <a:pt x="9996" y="8558"/>
                </a:cubicBezTo>
                <a:cubicBezTo>
                  <a:pt x="9976" y="8665"/>
                  <a:pt x="9872" y="8672"/>
                  <a:pt x="9872" y="8781"/>
                </a:cubicBezTo>
                <a:cubicBezTo>
                  <a:pt x="10038" y="8836"/>
                  <a:pt x="10251" y="9003"/>
                  <a:pt x="9971" y="9153"/>
                </a:cubicBezTo>
                <a:cubicBezTo>
                  <a:pt x="9922" y="9161"/>
                  <a:pt x="9872" y="9170"/>
                  <a:pt x="9823" y="9178"/>
                </a:cubicBezTo>
              </a:path>
              <a:path w="4218" h="1614">
                <a:moveTo>
                  <a:pt x="10170" y="8582"/>
                </a:moveTo>
                <a:cubicBezTo>
                  <a:pt x="10366" y="8574"/>
                  <a:pt x="10663" y="8611"/>
                  <a:pt x="10641" y="8905"/>
                </a:cubicBezTo>
                <a:cubicBezTo>
                  <a:pt x="10628" y="9084"/>
                  <a:pt x="10328" y="9251"/>
                  <a:pt x="10269" y="9004"/>
                </a:cubicBezTo>
                <a:cubicBezTo>
                  <a:pt x="10277" y="8963"/>
                  <a:pt x="10286" y="8921"/>
                  <a:pt x="10294" y="8880"/>
                </a:cubicBezTo>
                <a:cubicBezTo>
                  <a:pt x="10480" y="8859"/>
                  <a:pt x="10597" y="8890"/>
                  <a:pt x="10765" y="8979"/>
                </a:cubicBezTo>
              </a:path>
              <a:path w="4218" h="1614">
                <a:moveTo>
                  <a:pt x="11038" y="8632"/>
                </a:moveTo>
                <a:cubicBezTo>
                  <a:pt x="11154" y="8632"/>
                  <a:pt x="11269" y="8632"/>
                  <a:pt x="11385" y="8632"/>
                </a:cubicBezTo>
              </a:path>
              <a:path w="4218" h="1614">
                <a:moveTo>
                  <a:pt x="11187" y="8855"/>
                </a:moveTo>
                <a:cubicBezTo>
                  <a:pt x="11344" y="8829"/>
                  <a:pt x="11401" y="8819"/>
                  <a:pt x="11509" y="8806"/>
                </a:cubicBezTo>
              </a:path>
              <a:path w="4218" h="1614">
                <a:moveTo>
                  <a:pt x="11857" y="8632"/>
                </a:moveTo>
                <a:cubicBezTo>
                  <a:pt x="11806" y="8799"/>
                  <a:pt x="11702" y="9012"/>
                  <a:pt x="11981" y="8979"/>
                </a:cubicBezTo>
                <a:cubicBezTo>
                  <a:pt x="12153" y="8936"/>
                  <a:pt x="12198" y="8936"/>
                  <a:pt x="12278" y="8855"/>
                </a:cubicBezTo>
              </a:path>
              <a:path w="4218" h="1614">
                <a:moveTo>
                  <a:pt x="12229" y="8508"/>
                </a:moveTo>
                <a:cubicBezTo>
                  <a:pt x="12189" y="8735"/>
                  <a:pt x="12179" y="8948"/>
                  <a:pt x="12179" y="9178"/>
                </a:cubicBezTo>
                <a:cubicBezTo>
                  <a:pt x="12179" y="9186"/>
                  <a:pt x="12179" y="9195"/>
                  <a:pt x="12179" y="9203"/>
                </a:cubicBezTo>
              </a:path>
              <a:path w="4218" h="1614">
                <a:moveTo>
                  <a:pt x="12452" y="8582"/>
                </a:moveTo>
                <a:cubicBezTo>
                  <a:pt x="12452" y="8718"/>
                  <a:pt x="12442" y="8852"/>
                  <a:pt x="12477" y="8979"/>
                </a:cubicBezTo>
                <a:cubicBezTo>
                  <a:pt x="12612" y="8952"/>
                  <a:pt x="12661" y="8937"/>
                  <a:pt x="12725" y="8855"/>
                </a:cubicBezTo>
              </a:path>
              <a:path w="4218" h="1614">
                <a:moveTo>
                  <a:pt x="12700" y="8384"/>
                </a:moveTo>
                <a:cubicBezTo>
                  <a:pt x="12721" y="8591"/>
                  <a:pt x="12748" y="8798"/>
                  <a:pt x="12774" y="9004"/>
                </a:cubicBezTo>
              </a:path>
              <a:path w="4218" h="1614">
                <a:moveTo>
                  <a:pt x="11757" y="9575"/>
                </a:moveTo>
                <a:cubicBezTo>
                  <a:pt x="12204" y="9509"/>
                  <a:pt x="12669" y="9424"/>
                  <a:pt x="13022" y="9103"/>
                </a:cubicBezTo>
                <a:cubicBezTo>
                  <a:pt x="13241" y="8904"/>
                  <a:pt x="13300" y="8377"/>
                  <a:pt x="13072" y="8161"/>
                </a:cubicBezTo>
                <a:cubicBezTo>
                  <a:pt x="12783" y="7887"/>
                  <a:pt x="12073" y="7865"/>
                  <a:pt x="11807" y="8186"/>
                </a:cubicBezTo>
                <a:cubicBezTo>
                  <a:pt x="11453" y="8614"/>
                  <a:pt x="11591" y="9198"/>
                  <a:pt x="11832" y="95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30800" y="4170240"/>
            <a:ext cx="214200" cy="357480"/>
          </a:xfrm>
          <a:custGeom>
            <a:avLst/>
            <a:gdLst/>
            <a:ahLst/>
            <a:rect l="l" t="t" r="r" b="b"/>
            <a:pathLst>
              <a:path w="597" h="993">
                <a:moveTo>
                  <a:pt x="12179" y="11857"/>
                </a:moveTo>
                <a:cubicBezTo>
                  <a:pt x="12123" y="11842"/>
                  <a:pt x="12089" y="12063"/>
                  <a:pt x="12030" y="12204"/>
                </a:cubicBezTo>
                <a:cubicBezTo>
                  <a:pt x="12170" y="12111"/>
                  <a:pt x="12255" y="12068"/>
                  <a:pt x="12427" y="12105"/>
                </a:cubicBezTo>
                <a:cubicBezTo>
                  <a:pt x="12493" y="12126"/>
                  <a:pt x="12508" y="12134"/>
                  <a:pt x="12551" y="12129"/>
                </a:cubicBezTo>
              </a:path>
              <a:path w="597" h="993">
                <a:moveTo>
                  <a:pt x="12626" y="11584"/>
                </a:moveTo>
                <a:cubicBezTo>
                  <a:pt x="12486" y="11643"/>
                  <a:pt x="12515" y="11964"/>
                  <a:pt x="12502" y="12105"/>
                </a:cubicBezTo>
                <a:cubicBezTo>
                  <a:pt x="12487" y="12267"/>
                  <a:pt x="12470" y="12417"/>
                  <a:pt x="12452" y="125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73200" y="4813200"/>
            <a:ext cx="2421000" cy="990720"/>
          </a:xfrm>
          <a:custGeom>
            <a:avLst/>
            <a:gdLst/>
            <a:ahLst/>
            <a:rect l="l" t="t" r="r" b="b"/>
            <a:pathLst>
              <a:path w="6723" h="2754">
                <a:moveTo>
                  <a:pt x="6896" y="13444"/>
                </a:moveTo>
                <a:cubicBezTo>
                  <a:pt x="6881" y="13536"/>
                  <a:pt x="6876" y="13601"/>
                  <a:pt x="6871" y="13692"/>
                </a:cubicBezTo>
                <a:cubicBezTo>
                  <a:pt x="7069" y="13728"/>
                  <a:pt x="7306" y="13654"/>
                  <a:pt x="7516" y="13643"/>
                </a:cubicBezTo>
                <a:cubicBezTo>
                  <a:pt x="7767" y="13630"/>
                  <a:pt x="8036" y="13639"/>
                  <a:pt x="8285" y="13667"/>
                </a:cubicBezTo>
                <a:cubicBezTo>
                  <a:pt x="8481" y="13689"/>
                  <a:pt x="8485" y="13692"/>
                  <a:pt x="8508" y="13469"/>
                </a:cubicBezTo>
                <a:cubicBezTo>
                  <a:pt x="8508" y="13436"/>
                  <a:pt x="8508" y="13403"/>
                  <a:pt x="8508" y="13370"/>
                </a:cubicBezTo>
              </a:path>
              <a:path w="6723" h="2754">
                <a:moveTo>
                  <a:pt x="7913" y="13940"/>
                </a:moveTo>
                <a:cubicBezTo>
                  <a:pt x="7796" y="13975"/>
                  <a:pt x="7667" y="13984"/>
                  <a:pt x="7541" y="13990"/>
                </a:cubicBezTo>
                <a:cubicBezTo>
                  <a:pt x="7448" y="13994"/>
                  <a:pt x="7468" y="14197"/>
                  <a:pt x="7466" y="14263"/>
                </a:cubicBezTo>
                <a:cubicBezTo>
                  <a:pt x="7466" y="14279"/>
                  <a:pt x="7466" y="14296"/>
                  <a:pt x="7466" y="14312"/>
                </a:cubicBezTo>
                <a:cubicBezTo>
                  <a:pt x="7585" y="14274"/>
                  <a:pt x="8002" y="14129"/>
                  <a:pt x="7888" y="14436"/>
                </a:cubicBezTo>
                <a:cubicBezTo>
                  <a:pt x="7814" y="14635"/>
                  <a:pt x="7557" y="14578"/>
                  <a:pt x="7417" y="14536"/>
                </a:cubicBezTo>
              </a:path>
              <a:path w="6723" h="2754">
                <a:moveTo>
                  <a:pt x="8756" y="14114"/>
                </a:moveTo>
                <a:cubicBezTo>
                  <a:pt x="8738" y="14272"/>
                  <a:pt x="8727" y="14427"/>
                  <a:pt x="8706" y="14585"/>
                </a:cubicBezTo>
              </a:path>
              <a:path w="6723" h="2754">
                <a:moveTo>
                  <a:pt x="8483" y="14288"/>
                </a:moveTo>
                <a:cubicBezTo>
                  <a:pt x="8633" y="14279"/>
                  <a:pt x="8781" y="14257"/>
                  <a:pt x="8930" y="14238"/>
                </a:cubicBezTo>
              </a:path>
              <a:path w="6723" h="2754">
                <a:moveTo>
                  <a:pt x="9203" y="14039"/>
                </a:moveTo>
                <a:cubicBezTo>
                  <a:pt x="9274" y="14031"/>
                  <a:pt x="9603" y="13993"/>
                  <a:pt x="9426" y="14163"/>
                </a:cubicBezTo>
                <a:cubicBezTo>
                  <a:pt x="9393" y="14180"/>
                  <a:pt x="9360" y="14196"/>
                  <a:pt x="9327" y="14213"/>
                </a:cubicBezTo>
                <a:cubicBezTo>
                  <a:pt x="9319" y="14213"/>
                  <a:pt x="9310" y="14213"/>
                  <a:pt x="9302" y="14213"/>
                </a:cubicBezTo>
                <a:cubicBezTo>
                  <a:pt x="9431" y="14213"/>
                  <a:pt x="9725" y="14257"/>
                  <a:pt x="9550" y="14461"/>
                </a:cubicBezTo>
                <a:cubicBezTo>
                  <a:pt x="9421" y="14513"/>
                  <a:pt x="9374" y="14529"/>
                  <a:pt x="9277" y="14486"/>
                </a:cubicBezTo>
              </a:path>
              <a:path w="6723" h="2754">
                <a:moveTo>
                  <a:pt x="9947" y="14015"/>
                </a:moveTo>
                <a:cubicBezTo>
                  <a:pt x="10064" y="14163"/>
                  <a:pt x="10170" y="14319"/>
                  <a:pt x="10294" y="14461"/>
                </a:cubicBezTo>
              </a:path>
              <a:path w="6723" h="2754">
                <a:moveTo>
                  <a:pt x="10319" y="14039"/>
                </a:moveTo>
                <a:cubicBezTo>
                  <a:pt x="10203" y="14188"/>
                  <a:pt x="10088" y="14338"/>
                  <a:pt x="9971" y="14486"/>
                </a:cubicBezTo>
              </a:path>
              <a:path w="6723" h="2754">
                <a:moveTo>
                  <a:pt x="10666" y="13990"/>
                </a:moveTo>
                <a:cubicBezTo>
                  <a:pt x="10648" y="14078"/>
                  <a:pt x="10627" y="14154"/>
                  <a:pt x="10616" y="14238"/>
                </a:cubicBezTo>
                <a:cubicBezTo>
                  <a:pt x="10783" y="14194"/>
                  <a:pt x="10943" y="14149"/>
                  <a:pt x="11112" y="14114"/>
                </a:cubicBezTo>
              </a:path>
              <a:path w="6723" h="2754">
                <a:moveTo>
                  <a:pt x="11088" y="13767"/>
                </a:moveTo>
                <a:cubicBezTo>
                  <a:pt x="11019" y="14012"/>
                  <a:pt x="10995" y="14254"/>
                  <a:pt x="10988" y="14511"/>
                </a:cubicBezTo>
                <a:cubicBezTo>
                  <a:pt x="10988" y="14527"/>
                  <a:pt x="10988" y="14544"/>
                  <a:pt x="10988" y="14560"/>
                </a:cubicBezTo>
              </a:path>
              <a:path w="6723" h="2754">
                <a:moveTo>
                  <a:pt x="9575" y="14610"/>
                </a:moveTo>
                <a:cubicBezTo>
                  <a:pt x="9591" y="14687"/>
                  <a:pt x="9599" y="14732"/>
                  <a:pt x="9599" y="14808"/>
                </a:cubicBezTo>
                <a:cubicBezTo>
                  <a:pt x="9867" y="14771"/>
                  <a:pt x="10147" y="14729"/>
                  <a:pt x="10418" y="14759"/>
                </a:cubicBezTo>
                <a:cubicBezTo>
                  <a:pt x="10452" y="14763"/>
                  <a:pt x="10567" y="14824"/>
                  <a:pt x="10592" y="14759"/>
                </a:cubicBezTo>
                <a:cubicBezTo>
                  <a:pt x="10618" y="14650"/>
                  <a:pt x="10630" y="14607"/>
                  <a:pt x="10666" y="14536"/>
                </a:cubicBezTo>
              </a:path>
              <a:path w="6723" h="2754">
                <a:moveTo>
                  <a:pt x="9823" y="15056"/>
                </a:moveTo>
                <a:cubicBezTo>
                  <a:pt x="9823" y="15250"/>
                  <a:pt x="9808" y="15435"/>
                  <a:pt x="9798" y="15627"/>
                </a:cubicBezTo>
              </a:path>
              <a:path w="6723" h="2754">
                <a:moveTo>
                  <a:pt x="10145" y="15106"/>
                </a:moveTo>
                <a:cubicBezTo>
                  <a:pt x="10286" y="15141"/>
                  <a:pt x="10642" y="15213"/>
                  <a:pt x="10492" y="15453"/>
                </a:cubicBezTo>
                <a:cubicBezTo>
                  <a:pt x="10395" y="15608"/>
                  <a:pt x="10259" y="15554"/>
                  <a:pt x="10120" y="15528"/>
                </a:cubicBezTo>
                <a:cubicBezTo>
                  <a:pt x="10258" y="15429"/>
                  <a:pt x="10358" y="15379"/>
                  <a:pt x="10468" y="15553"/>
                </a:cubicBezTo>
                <a:cubicBezTo>
                  <a:pt x="10468" y="15561"/>
                  <a:pt x="10468" y="15569"/>
                  <a:pt x="10468" y="15577"/>
                </a:cubicBezTo>
              </a:path>
              <a:path w="6723" h="2754">
                <a:moveTo>
                  <a:pt x="8037" y="15205"/>
                </a:moveTo>
                <a:cubicBezTo>
                  <a:pt x="7896" y="15165"/>
                  <a:pt x="7768" y="15083"/>
                  <a:pt x="7714" y="15280"/>
                </a:cubicBezTo>
                <a:cubicBezTo>
                  <a:pt x="7714" y="15379"/>
                  <a:pt x="7714" y="15395"/>
                  <a:pt x="7714" y="15453"/>
                </a:cubicBezTo>
                <a:cubicBezTo>
                  <a:pt x="7935" y="15417"/>
                  <a:pt x="8023" y="15414"/>
                  <a:pt x="8136" y="15602"/>
                </a:cubicBezTo>
                <a:cubicBezTo>
                  <a:pt x="7984" y="15765"/>
                  <a:pt x="7901" y="15785"/>
                  <a:pt x="7714" y="15652"/>
                </a:cubicBezTo>
              </a:path>
              <a:path w="6723" h="2754">
                <a:moveTo>
                  <a:pt x="8706" y="15230"/>
                </a:moveTo>
                <a:cubicBezTo>
                  <a:pt x="8740" y="15322"/>
                  <a:pt x="8806" y="15476"/>
                  <a:pt x="8781" y="15577"/>
                </a:cubicBezTo>
                <a:cubicBezTo>
                  <a:pt x="8773" y="15585"/>
                  <a:pt x="8764" y="15594"/>
                  <a:pt x="8756" y="15602"/>
                </a:cubicBezTo>
              </a:path>
              <a:path w="6723" h="2754">
                <a:moveTo>
                  <a:pt x="8558" y="15404"/>
                </a:moveTo>
                <a:cubicBezTo>
                  <a:pt x="8715" y="15404"/>
                  <a:pt x="8756" y="15404"/>
                  <a:pt x="8855" y="15404"/>
                </a:cubicBezTo>
              </a:path>
              <a:path w="6723" h="2754">
                <a:moveTo>
                  <a:pt x="11137" y="15379"/>
                </a:moveTo>
                <a:cubicBezTo>
                  <a:pt x="11298" y="15339"/>
                  <a:pt x="11372" y="15327"/>
                  <a:pt x="11534" y="15354"/>
                </a:cubicBezTo>
              </a:path>
              <a:path w="6723" h="2754">
                <a:moveTo>
                  <a:pt x="11237" y="15528"/>
                </a:moveTo>
                <a:cubicBezTo>
                  <a:pt x="11335" y="15503"/>
                  <a:pt x="11367" y="15495"/>
                  <a:pt x="11435" y="15503"/>
                </a:cubicBezTo>
              </a:path>
              <a:path w="6723" h="2754">
                <a:moveTo>
                  <a:pt x="12154" y="15156"/>
                </a:moveTo>
                <a:cubicBezTo>
                  <a:pt x="12161" y="15345"/>
                  <a:pt x="12159" y="15547"/>
                  <a:pt x="12204" y="15726"/>
                </a:cubicBezTo>
              </a:path>
              <a:path w="6723" h="2754">
                <a:moveTo>
                  <a:pt x="12427" y="15230"/>
                </a:moveTo>
                <a:cubicBezTo>
                  <a:pt x="12511" y="15217"/>
                  <a:pt x="12883" y="15130"/>
                  <a:pt x="12923" y="15255"/>
                </a:cubicBezTo>
                <a:cubicBezTo>
                  <a:pt x="12959" y="15369"/>
                  <a:pt x="12818" y="15710"/>
                  <a:pt x="12774" y="15825"/>
                </a:cubicBezTo>
                <a:cubicBezTo>
                  <a:pt x="12766" y="15833"/>
                  <a:pt x="12758" y="15842"/>
                  <a:pt x="12750" y="15850"/>
                </a:cubicBezTo>
              </a:path>
              <a:path w="6723" h="2754">
                <a:moveTo>
                  <a:pt x="11385" y="15949"/>
                </a:moveTo>
                <a:cubicBezTo>
                  <a:pt x="11612" y="16063"/>
                  <a:pt x="11797" y="16110"/>
                  <a:pt x="12055" y="16123"/>
                </a:cubicBezTo>
                <a:cubicBezTo>
                  <a:pt x="12406" y="16140"/>
                  <a:pt x="12821" y="16124"/>
                  <a:pt x="13146" y="15974"/>
                </a:cubicBezTo>
                <a:cubicBezTo>
                  <a:pt x="13408" y="15853"/>
                  <a:pt x="13565" y="15664"/>
                  <a:pt x="13593" y="15379"/>
                </a:cubicBezTo>
                <a:cubicBezTo>
                  <a:pt x="13621" y="15088"/>
                  <a:pt x="13365" y="14898"/>
                  <a:pt x="13122" y="14784"/>
                </a:cubicBezTo>
                <a:cubicBezTo>
                  <a:pt x="12906" y="14683"/>
                  <a:pt x="12685" y="14663"/>
                  <a:pt x="12452" y="14709"/>
                </a:cubicBezTo>
                <a:cubicBezTo>
                  <a:pt x="12151" y="14769"/>
                  <a:pt x="11964" y="14976"/>
                  <a:pt x="11807" y="15230"/>
                </a:cubicBezTo>
                <a:cubicBezTo>
                  <a:pt x="11689" y="15420"/>
                  <a:pt x="11557" y="15716"/>
                  <a:pt x="11609" y="15949"/>
                </a:cubicBezTo>
                <a:cubicBezTo>
                  <a:pt x="11642" y="16096"/>
                  <a:pt x="11823" y="16073"/>
                  <a:pt x="11931" y="160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expression represents “ the product of K and 5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 + 5    b. 5k     c. K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    d.  k -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= 3n – 2     n=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00680" y="3929040"/>
            <a:ext cx="285480" cy="330120"/>
          </a:xfrm>
          <a:custGeom>
            <a:avLst/>
            <a:gdLst/>
            <a:ahLst/>
            <a:rect l="l" t="t" r="r" b="b"/>
            <a:pathLst>
              <a:path w="795" h="919">
                <a:moveTo>
                  <a:pt x="11212" y="11212"/>
                </a:moveTo>
                <a:cubicBezTo>
                  <a:pt x="11340" y="11188"/>
                  <a:pt x="11492" y="11212"/>
                  <a:pt x="11633" y="11212"/>
                </a:cubicBezTo>
                <a:cubicBezTo>
                  <a:pt x="11650" y="11212"/>
                  <a:pt x="11666" y="11212"/>
                  <a:pt x="11683" y="11212"/>
                </a:cubicBezTo>
                <a:cubicBezTo>
                  <a:pt x="11633" y="11379"/>
                  <a:pt x="11556" y="11538"/>
                  <a:pt x="11509" y="11708"/>
                </a:cubicBezTo>
              </a:path>
              <a:path w="795" h="919">
                <a:moveTo>
                  <a:pt x="11311" y="10914"/>
                </a:moveTo>
                <a:cubicBezTo>
                  <a:pt x="11169" y="10950"/>
                  <a:pt x="11119" y="11170"/>
                  <a:pt x="11112" y="11311"/>
                </a:cubicBezTo>
                <a:cubicBezTo>
                  <a:pt x="11103" y="11501"/>
                  <a:pt x="11188" y="11734"/>
                  <a:pt x="11361" y="11832"/>
                </a:cubicBezTo>
                <a:cubicBezTo>
                  <a:pt x="11377" y="11832"/>
                  <a:pt x="11394" y="11832"/>
                  <a:pt x="11410" y="11832"/>
                </a:cubicBezTo>
              </a:path>
              <a:path w="795" h="919">
                <a:moveTo>
                  <a:pt x="11733" y="10914"/>
                </a:moveTo>
                <a:cubicBezTo>
                  <a:pt x="11837" y="11141"/>
                  <a:pt x="11932" y="11310"/>
                  <a:pt x="11857" y="11559"/>
                </a:cubicBezTo>
                <a:cubicBezTo>
                  <a:pt x="11791" y="11713"/>
                  <a:pt x="11779" y="11753"/>
                  <a:pt x="11708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3760" y="4394160"/>
            <a:ext cx="1733400" cy="534960"/>
          </a:xfrm>
          <a:custGeom>
            <a:avLst/>
            <a:gdLst/>
            <a:ahLst/>
            <a:rect l="l" t="t" r="r" b="b"/>
            <a:pathLst>
              <a:path w="4813" h="1489">
                <a:moveTo>
                  <a:pt x="10716" y="12824"/>
                </a:moveTo>
                <a:cubicBezTo>
                  <a:pt x="10849" y="12841"/>
                  <a:pt x="10958" y="12968"/>
                  <a:pt x="10889" y="13122"/>
                </a:cubicBezTo>
                <a:cubicBezTo>
                  <a:pt x="10805" y="13309"/>
                  <a:pt x="10699" y="13344"/>
                  <a:pt x="10567" y="13295"/>
                </a:cubicBezTo>
                <a:cubicBezTo>
                  <a:pt x="10608" y="13130"/>
                  <a:pt x="10706" y="13002"/>
                  <a:pt x="10914" y="13097"/>
                </a:cubicBezTo>
                <a:cubicBezTo>
                  <a:pt x="10980" y="13163"/>
                  <a:pt x="10997" y="13180"/>
                  <a:pt x="11038" y="13221"/>
                </a:cubicBezTo>
              </a:path>
              <a:path w="4813" h="1489">
                <a:moveTo>
                  <a:pt x="11311" y="12774"/>
                </a:moveTo>
                <a:cubicBezTo>
                  <a:pt x="11323" y="12907"/>
                  <a:pt x="11343" y="13039"/>
                  <a:pt x="11361" y="13171"/>
                </a:cubicBezTo>
                <a:cubicBezTo>
                  <a:pt x="11361" y="13179"/>
                  <a:pt x="11361" y="13188"/>
                  <a:pt x="11361" y="13196"/>
                </a:cubicBezTo>
              </a:path>
              <a:path w="4813" h="1489">
                <a:moveTo>
                  <a:pt x="11807" y="12998"/>
                </a:moveTo>
                <a:cubicBezTo>
                  <a:pt x="11901" y="12988"/>
                  <a:pt x="11988" y="12969"/>
                  <a:pt x="12080" y="12948"/>
                </a:cubicBezTo>
              </a:path>
              <a:path w="4813" h="1489">
                <a:moveTo>
                  <a:pt x="12353" y="12750"/>
                </a:moveTo>
                <a:cubicBezTo>
                  <a:pt x="12498" y="12761"/>
                  <a:pt x="12641" y="12792"/>
                  <a:pt x="12650" y="12973"/>
                </a:cubicBezTo>
                <a:cubicBezTo>
                  <a:pt x="12662" y="13208"/>
                  <a:pt x="12444" y="13230"/>
                  <a:pt x="12278" y="13221"/>
                </a:cubicBezTo>
                <a:cubicBezTo>
                  <a:pt x="12323" y="13088"/>
                  <a:pt x="12414" y="13008"/>
                  <a:pt x="12576" y="13072"/>
                </a:cubicBezTo>
                <a:cubicBezTo>
                  <a:pt x="12641" y="13116"/>
                  <a:pt x="12660" y="13122"/>
                  <a:pt x="12675" y="13171"/>
                </a:cubicBezTo>
              </a:path>
              <a:path w="4813" h="1489">
                <a:moveTo>
                  <a:pt x="13122" y="12898"/>
                </a:moveTo>
                <a:cubicBezTo>
                  <a:pt x="13239" y="12904"/>
                  <a:pt x="13353" y="12915"/>
                  <a:pt x="13469" y="12923"/>
                </a:cubicBezTo>
              </a:path>
              <a:path w="4813" h="1489">
                <a:moveTo>
                  <a:pt x="13122" y="13122"/>
                </a:moveTo>
                <a:cubicBezTo>
                  <a:pt x="13230" y="13122"/>
                  <a:pt x="13272" y="13120"/>
                  <a:pt x="13345" y="13097"/>
                </a:cubicBezTo>
              </a:path>
              <a:path w="4813" h="1489">
                <a:moveTo>
                  <a:pt x="13915" y="12774"/>
                </a:moveTo>
                <a:cubicBezTo>
                  <a:pt x="13943" y="12909"/>
                  <a:pt x="13978" y="13038"/>
                  <a:pt x="14015" y="13171"/>
                </a:cubicBezTo>
              </a:path>
              <a:path w="4813" h="1489">
                <a:moveTo>
                  <a:pt x="14585" y="12774"/>
                </a:moveTo>
                <a:cubicBezTo>
                  <a:pt x="14524" y="12606"/>
                  <a:pt x="14399" y="12621"/>
                  <a:pt x="14288" y="12774"/>
                </a:cubicBezTo>
                <a:cubicBezTo>
                  <a:pt x="14271" y="12807"/>
                  <a:pt x="14255" y="12841"/>
                  <a:pt x="14238" y="12874"/>
                </a:cubicBezTo>
                <a:cubicBezTo>
                  <a:pt x="14406" y="13010"/>
                  <a:pt x="14485" y="12927"/>
                  <a:pt x="14585" y="12750"/>
                </a:cubicBezTo>
                <a:cubicBezTo>
                  <a:pt x="14636" y="12891"/>
                  <a:pt x="14671" y="13027"/>
                  <a:pt x="14709" y="13171"/>
                </a:cubicBezTo>
              </a:path>
              <a:path w="4813" h="1489">
                <a:moveTo>
                  <a:pt x="13791" y="13618"/>
                </a:moveTo>
                <a:cubicBezTo>
                  <a:pt x="14055" y="13725"/>
                  <a:pt x="14304" y="13678"/>
                  <a:pt x="14585" y="13618"/>
                </a:cubicBezTo>
                <a:cubicBezTo>
                  <a:pt x="14933" y="13544"/>
                  <a:pt x="15296" y="13393"/>
                  <a:pt x="15379" y="12998"/>
                </a:cubicBezTo>
                <a:cubicBezTo>
                  <a:pt x="15464" y="12593"/>
                  <a:pt x="15226" y="12264"/>
                  <a:pt x="14833" y="12204"/>
                </a:cubicBezTo>
                <a:cubicBezTo>
                  <a:pt x="14472" y="12149"/>
                  <a:pt x="14051" y="12233"/>
                  <a:pt x="13816" y="12526"/>
                </a:cubicBezTo>
                <a:cubicBezTo>
                  <a:pt x="13604" y="12790"/>
                  <a:pt x="13441" y="13128"/>
                  <a:pt x="13692" y="13419"/>
                </a:cubicBezTo>
                <a:cubicBezTo>
                  <a:pt x="13758" y="13469"/>
                  <a:pt x="13825" y="13518"/>
                  <a:pt x="13891" y="135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5880" y="2276640"/>
            <a:ext cx="982440" cy="607680"/>
          </a:xfrm>
          <a:custGeom>
            <a:avLst/>
            <a:gdLst/>
            <a:ahLst/>
            <a:rect l="l" t="t" r="r" b="b"/>
            <a:pathLst>
              <a:path w="2729" h="1688">
                <a:moveTo>
                  <a:pt x="8682" y="7987"/>
                </a:moveTo>
                <a:cubicBezTo>
                  <a:pt x="8841" y="8008"/>
                  <a:pt x="8989" y="8012"/>
                  <a:pt x="9153" y="8012"/>
                </a:cubicBezTo>
                <a:cubicBezTo>
                  <a:pt x="9490" y="8012"/>
                  <a:pt x="9825" y="7975"/>
                  <a:pt x="10145" y="7863"/>
                </a:cubicBezTo>
                <a:cubicBezTo>
                  <a:pt x="10380" y="7781"/>
                  <a:pt x="10613" y="7646"/>
                  <a:pt x="10840" y="7541"/>
                </a:cubicBezTo>
                <a:cubicBezTo>
                  <a:pt x="11004" y="7465"/>
                  <a:pt x="11112" y="7369"/>
                  <a:pt x="11237" y="7243"/>
                </a:cubicBezTo>
                <a:cubicBezTo>
                  <a:pt x="11311" y="7169"/>
                  <a:pt x="11364" y="7093"/>
                  <a:pt x="11385" y="6995"/>
                </a:cubicBezTo>
                <a:cubicBezTo>
                  <a:pt x="11402" y="6913"/>
                  <a:pt x="11381" y="6860"/>
                  <a:pt x="11361" y="6772"/>
                </a:cubicBezTo>
                <a:cubicBezTo>
                  <a:pt x="11331" y="6644"/>
                  <a:pt x="11278" y="6565"/>
                  <a:pt x="11162" y="6499"/>
                </a:cubicBezTo>
                <a:cubicBezTo>
                  <a:pt x="10985" y="6398"/>
                  <a:pt x="10817" y="6332"/>
                  <a:pt x="10616" y="6325"/>
                </a:cubicBezTo>
                <a:cubicBezTo>
                  <a:pt x="10358" y="6316"/>
                  <a:pt x="10077" y="6356"/>
                  <a:pt x="9823" y="6400"/>
                </a:cubicBezTo>
                <a:cubicBezTo>
                  <a:pt x="9567" y="6444"/>
                  <a:pt x="9292" y="6562"/>
                  <a:pt x="9103" y="6747"/>
                </a:cubicBezTo>
                <a:cubicBezTo>
                  <a:pt x="8917" y="6929"/>
                  <a:pt x="8849" y="7132"/>
                  <a:pt x="8880" y="7392"/>
                </a:cubicBezTo>
                <a:cubicBezTo>
                  <a:pt x="8917" y="7705"/>
                  <a:pt x="9027" y="7982"/>
                  <a:pt x="9376" y="8012"/>
                </a:cubicBezTo>
                <a:cubicBezTo>
                  <a:pt x="9592" y="8030"/>
                  <a:pt x="9834" y="7950"/>
                  <a:pt x="10046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would be the average age of 3 students whose combined years is 33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d.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an algebraic expression for the total of 15 and a number 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57280" y="3751200"/>
            <a:ext cx="169920" cy="142920"/>
          </a:xfrm>
          <a:custGeom>
            <a:avLst/>
            <a:gdLst/>
            <a:ahLst/>
            <a:rect l="l" t="t" r="r" b="b"/>
            <a:pathLst>
              <a:path w="473" h="398">
                <a:moveTo>
                  <a:pt x="6871" y="10418"/>
                </a:moveTo>
                <a:cubicBezTo>
                  <a:pt x="6848" y="10552"/>
                  <a:pt x="6829" y="10680"/>
                  <a:pt x="6821" y="10815"/>
                </a:cubicBezTo>
              </a:path>
              <a:path w="473" h="398">
                <a:moveTo>
                  <a:pt x="6548" y="10666"/>
                </a:moveTo>
                <a:cubicBezTo>
                  <a:pt x="6706" y="10632"/>
                  <a:pt x="6813" y="10666"/>
                  <a:pt x="6970" y="10691"/>
                </a:cubicBezTo>
                <a:cubicBezTo>
                  <a:pt x="6987" y="10691"/>
                  <a:pt x="7003" y="10691"/>
                  <a:pt x="7020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16200" y="3732120"/>
            <a:ext cx="241560" cy="179640"/>
          </a:xfrm>
          <a:custGeom>
            <a:avLst/>
            <a:gdLst/>
            <a:ahLst/>
            <a:rect l="l" t="t" r="r" b="b"/>
            <a:pathLst>
              <a:path w="671" h="497">
                <a:moveTo>
                  <a:pt x="10046" y="10368"/>
                </a:moveTo>
                <a:cubicBezTo>
                  <a:pt x="10046" y="10517"/>
                  <a:pt x="10046" y="10666"/>
                  <a:pt x="10046" y="10815"/>
                </a:cubicBezTo>
              </a:path>
              <a:path w="671" h="497">
                <a:moveTo>
                  <a:pt x="10567" y="10368"/>
                </a:moveTo>
                <a:cubicBezTo>
                  <a:pt x="10417" y="10403"/>
                  <a:pt x="10346" y="10361"/>
                  <a:pt x="10294" y="10517"/>
                </a:cubicBezTo>
                <a:cubicBezTo>
                  <a:pt x="10273" y="10599"/>
                  <a:pt x="10265" y="10615"/>
                  <a:pt x="10269" y="10666"/>
                </a:cubicBezTo>
                <a:cubicBezTo>
                  <a:pt x="10401" y="10610"/>
                  <a:pt x="10582" y="10476"/>
                  <a:pt x="10691" y="10641"/>
                </a:cubicBezTo>
                <a:cubicBezTo>
                  <a:pt x="10847" y="10876"/>
                  <a:pt x="10523" y="10841"/>
                  <a:pt x="10418" y="108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0160" y="4259160"/>
            <a:ext cx="911160" cy="214560"/>
          </a:xfrm>
          <a:custGeom>
            <a:avLst/>
            <a:gdLst/>
            <a:ahLst/>
            <a:rect l="l" t="t" r="r" b="b"/>
            <a:pathLst>
              <a:path w="2531" h="596">
                <a:moveTo>
                  <a:pt x="12055" y="11931"/>
                </a:moveTo>
                <a:cubicBezTo>
                  <a:pt x="12055" y="12072"/>
                  <a:pt x="12055" y="12212"/>
                  <a:pt x="12055" y="12353"/>
                </a:cubicBezTo>
              </a:path>
              <a:path w="2531" h="596">
                <a:moveTo>
                  <a:pt x="12650" y="11832"/>
                </a:moveTo>
                <a:cubicBezTo>
                  <a:pt x="12579" y="11850"/>
                  <a:pt x="12452" y="11830"/>
                  <a:pt x="12427" y="11906"/>
                </a:cubicBezTo>
                <a:cubicBezTo>
                  <a:pt x="12407" y="12007"/>
                  <a:pt x="12409" y="12027"/>
                  <a:pt x="12378" y="12080"/>
                </a:cubicBezTo>
                <a:cubicBezTo>
                  <a:pt x="12484" y="12059"/>
                  <a:pt x="12804" y="11949"/>
                  <a:pt x="12849" y="12129"/>
                </a:cubicBezTo>
                <a:cubicBezTo>
                  <a:pt x="12889" y="12290"/>
                  <a:pt x="12642" y="12528"/>
                  <a:pt x="12502" y="12378"/>
                </a:cubicBezTo>
                <a:cubicBezTo>
                  <a:pt x="12485" y="12337"/>
                  <a:pt x="12469" y="12295"/>
                  <a:pt x="12452" y="12254"/>
                </a:cubicBezTo>
              </a:path>
              <a:path w="2531" h="596">
                <a:moveTo>
                  <a:pt x="13345" y="11981"/>
                </a:moveTo>
                <a:cubicBezTo>
                  <a:pt x="13363" y="12107"/>
                  <a:pt x="13370" y="12224"/>
                  <a:pt x="13370" y="12353"/>
                </a:cubicBezTo>
                <a:cubicBezTo>
                  <a:pt x="13370" y="12361"/>
                  <a:pt x="13370" y="12370"/>
                  <a:pt x="13370" y="12378"/>
                </a:cubicBezTo>
              </a:path>
              <a:path w="2531" h="596">
                <a:moveTo>
                  <a:pt x="13221" y="12154"/>
                </a:moveTo>
                <a:cubicBezTo>
                  <a:pt x="13345" y="12112"/>
                  <a:pt x="13484" y="12127"/>
                  <a:pt x="13618" y="12154"/>
                </a:cubicBezTo>
              </a:path>
              <a:path w="2531" h="596">
                <a:moveTo>
                  <a:pt x="14015" y="11931"/>
                </a:moveTo>
                <a:cubicBezTo>
                  <a:pt x="14188" y="12046"/>
                  <a:pt x="14343" y="12180"/>
                  <a:pt x="14511" y="12303"/>
                </a:cubicBezTo>
              </a:path>
              <a:path w="2531" h="596">
                <a:moveTo>
                  <a:pt x="14585" y="11956"/>
                </a:moveTo>
                <a:cubicBezTo>
                  <a:pt x="14402" y="12066"/>
                  <a:pt x="14281" y="12241"/>
                  <a:pt x="14114" y="12378"/>
                </a:cubicBezTo>
                <a:cubicBezTo>
                  <a:pt x="14097" y="12386"/>
                  <a:pt x="14081" y="12394"/>
                  <a:pt x="14064" y="124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3768840"/>
            <a:ext cx="171360" cy="187200"/>
          </a:xfrm>
          <a:custGeom>
            <a:avLst/>
            <a:gdLst/>
            <a:ahLst/>
            <a:rect l="l" t="t" r="r" b="b"/>
            <a:pathLst>
              <a:path w="473" h="521">
                <a:moveTo>
                  <a:pt x="15453" y="10567"/>
                </a:moveTo>
                <a:cubicBezTo>
                  <a:pt x="15575" y="10677"/>
                  <a:pt x="15706" y="10809"/>
                  <a:pt x="15850" y="10889"/>
                </a:cubicBezTo>
                <a:cubicBezTo>
                  <a:pt x="15875" y="10897"/>
                  <a:pt x="15900" y="10906"/>
                  <a:pt x="15925" y="10914"/>
                </a:cubicBezTo>
              </a:path>
              <a:path w="473" h="521">
                <a:moveTo>
                  <a:pt x="15900" y="10468"/>
                </a:moveTo>
                <a:cubicBezTo>
                  <a:pt x="15745" y="10628"/>
                  <a:pt x="15562" y="10772"/>
                  <a:pt x="15503" y="109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97320" y="1928880"/>
            <a:ext cx="1339920" cy="803160"/>
          </a:xfrm>
          <a:custGeom>
            <a:avLst/>
            <a:gdLst/>
            <a:ahLst/>
            <a:rect l="l" t="t" r="r" b="b"/>
            <a:pathLst>
              <a:path w="3722" h="2233">
                <a:moveTo>
                  <a:pt x="14436" y="7169"/>
                </a:moveTo>
                <a:cubicBezTo>
                  <a:pt x="14533" y="7245"/>
                  <a:pt x="14611" y="7304"/>
                  <a:pt x="14734" y="7342"/>
                </a:cubicBezTo>
                <a:cubicBezTo>
                  <a:pt x="15040" y="7437"/>
                  <a:pt x="15385" y="7477"/>
                  <a:pt x="15701" y="7541"/>
                </a:cubicBezTo>
                <a:cubicBezTo>
                  <a:pt x="15912" y="7583"/>
                  <a:pt x="16106" y="7590"/>
                  <a:pt x="16321" y="7590"/>
                </a:cubicBezTo>
                <a:cubicBezTo>
                  <a:pt x="16542" y="7590"/>
                  <a:pt x="16704" y="7563"/>
                  <a:pt x="16917" y="7516"/>
                </a:cubicBezTo>
                <a:cubicBezTo>
                  <a:pt x="17093" y="7477"/>
                  <a:pt x="17246" y="7439"/>
                  <a:pt x="17413" y="7367"/>
                </a:cubicBezTo>
                <a:cubicBezTo>
                  <a:pt x="17557" y="7305"/>
                  <a:pt x="17684" y="7163"/>
                  <a:pt x="17785" y="7045"/>
                </a:cubicBezTo>
                <a:cubicBezTo>
                  <a:pt x="17883" y="6930"/>
                  <a:pt x="17981" y="6792"/>
                  <a:pt x="18033" y="6648"/>
                </a:cubicBezTo>
                <a:cubicBezTo>
                  <a:pt x="18081" y="6515"/>
                  <a:pt x="18098" y="6414"/>
                  <a:pt x="18132" y="6276"/>
                </a:cubicBezTo>
                <a:cubicBezTo>
                  <a:pt x="18167" y="6133"/>
                  <a:pt x="18158" y="6098"/>
                  <a:pt x="18083" y="5978"/>
                </a:cubicBezTo>
                <a:cubicBezTo>
                  <a:pt x="17929" y="5731"/>
                  <a:pt x="17532" y="5658"/>
                  <a:pt x="17289" y="5556"/>
                </a:cubicBezTo>
                <a:cubicBezTo>
                  <a:pt x="17073" y="5465"/>
                  <a:pt x="16858" y="5376"/>
                  <a:pt x="16619" y="5358"/>
                </a:cubicBezTo>
                <a:cubicBezTo>
                  <a:pt x="16377" y="5340"/>
                  <a:pt x="16112" y="5355"/>
                  <a:pt x="15875" y="5407"/>
                </a:cubicBezTo>
                <a:cubicBezTo>
                  <a:pt x="15621" y="5462"/>
                  <a:pt x="15463" y="5590"/>
                  <a:pt x="15255" y="5730"/>
                </a:cubicBezTo>
                <a:cubicBezTo>
                  <a:pt x="15087" y="5843"/>
                  <a:pt x="14960" y="5967"/>
                  <a:pt x="14833" y="6127"/>
                </a:cubicBezTo>
                <a:cubicBezTo>
                  <a:pt x="14717" y="6273"/>
                  <a:pt x="14682" y="6388"/>
                  <a:pt x="14610" y="6548"/>
                </a:cubicBezTo>
                <a:cubicBezTo>
                  <a:pt x="14542" y="6698"/>
                  <a:pt x="14494" y="6805"/>
                  <a:pt x="14486" y="6970"/>
                </a:cubicBezTo>
                <a:cubicBezTo>
                  <a:pt x="14480" y="7091"/>
                  <a:pt x="14512" y="7230"/>
                  <a:pt x="14560" y="7342"/>
                </a:cubicBezTo>
                <a:cubicBezTo>
                  <a:pt x="14602" y="7442"/>
                  <a:pt x="14665" y="7443"/>
                  <a:pt x="14734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1447920"/>
          <a:ext cx="2743200" cy="2342880"/>
        </p:xfrm>
        <a:graphic>
          <a:graphicData uri="http://schemas.openxmlformats.org/drawingml/2006/table">
            <a:tbl>
              <a:tblPr/>
              <a:tblGrid>
                <a:gridCol w="1219320"/>
                <a:gridCol w="152388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3048120" y="1295280"/>
            <a:ext cx="464796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rule of the function t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39625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3440" y="4424400"/>
            <a:ext cx="352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4 – 12 x 2 +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3760" y="4991040"/>
            <a:ext cx="1420560" cy="581040"/>
          </a:xfrm>
          <a:custGeom>
            <a:avLst/>
            <a:gdLst/>
            <a:ahLst/>
            <a:rect l="l" t="t" r="r" b="b"/>
            <a:pathLst>
              <a:path w="3945" h="1613">
                <a:moveTo>
                  <a:pt x="12725" y="13891"/>
                </a:moveTo>
                <a:cubicBezTo>
                  <a:pt x="12734" y="13992"/>
                  <a:pt x="12763" y="14089"/>
                  <a:pt x="12774" y="14188"/>
                </a:cubicBezTo>
                <a:cubicBezTo>
                  <a:pt x="12926" y="14188"/>
                  <a:pt x="13047" y="14116"/>
                  <a:pt x="13196" y="14089"/>
                </a:cubicBezTo>
                <a:cubicBezTo>
                  <a:pt x="13459" y="14041"/>
                  <a:pt x="13772" y="14042"/>
                  <a:pt x="14039" y="14064"/>
                </a:cubicBezTo>
                <a:cubicBezTo>
                  <a:pt x="14174" y="14075"/>
                  <a:pt x="14315" y="14101"/>
                  <a:pt x="14436" y="14114"/>
                </a:cubicBezTo>
                <a:cubicBezTo>
                  <a:pt x="14519" y="14123"/>
                  <a:pt x="14503" y="13940"/>
                  <a:pt x="14511" y="13866"/>
                </a:cubicBezTo>
              </a:path>
              <a:path w="3945" h="1613">
                <a:moveTo>
                  <a:pt x="12874" y="14833"/>
                </a:moveTo>
                <a:cubicBezTo>
                  <a:pt x="13100" y="14815"/>
                  <a:pt x="13155" y="15022"/>
                  <a:pt x="13047" y="15230"/>
                </a:cubicBezTo>
                <a:cubicBezTo>
                  <a:pt x="12944" y="15428"/>
                  <a:pt x="12808" y="15367"/>
                  <a:pt x="12650" y="15329"/>
                </a:cubicBezTo>
                <a:cubicBezTo>
                  <a:pt x="12713" y="15142"/>
                  <a:pt x="12867" y="15088"/>
                  <a:pt x="13072" y="15205"/>
                </a:cubicBezTo>
                <a:cubicBezTo>
                  <a:pt x="13129" y="15263"/>
                  <a:pt x="13137" y="15272"/>
                  <a:pt x="13171" y="15304"/>
                </a:cubicBezTo>
              </a:path>
              <a:path w="3945" h="1613">
                <a:moveTo>
                  <a:pt x="13370" y="14908"/>
                </a:moveTo>
                <a:cubicBezTo>
                  <a:pt x="13420" y="15109"/>
                  <a:pt x="13527" y="15056"/>
                  <a:pt x="13717" y="15032"/>
                </a:cubicBezTo>
              </a:path>
              <a:path w="3945" h="1613">
                <a:moveTo>
                  <a:pt x="13643" y="14684"/>
                </a:moveTo>
                <a:cubicBezTo>
                  <a:pt x="13643" y="14882"/>
                  <a:pt x="13640" y="15042"/>
                  <a:pt x="13593" y="15230"/>
                </a:cubicBezTo>
              </a:path>
              <a:path w="3945" h="1613">
                <a:moveTo>
                  <a:pt x="10616" y="14957"/>
                </a:moveTo>
                <a:cubicBezTo>
                  <a:pt x="10764" y="14992"/>
                  <a:pt x="11102" y="15140"/>
                  <a:pt x="10939" y="15379"/>
                </a:cubicBezTo>
                <a:cubicBezTo>
                  <a:pt x="10813" y="15563"/>
                  <a:pt x="10687" y="15459"/>
                  <a:pt x="10567" y="15379"/>
                </a:cubicBezTo>
                <a:cubicBezTo>
                  <a:pt x="10725" y="15221"/>
                  <a:pt x="10835" y="15295"/>
                  <a:pt x="11013" y="15429"/>
                </a:cubicBezTo>
              </a:path>
              <a:path w="3945" h="1613">
                <a:moveTo>
                  <a:pt x="11212" y="15131"/>
                </a:moveTo>
                <a:cubicBezTo>
                  <a:pt x="11338" y="15271"/>
                  <a:pt x="11399" y="15240"/>
                  <a:pt x="11559" y="15156"/>
                </a:cubicBezTo>
              </a:path>
              <a:path w="3945" h="1613">
                <a:moveTo>
                  <a:pt x="11509" y="15007"/>
                </a:moveTo>
                <a:cubicBezTo>
                  <a:pt x="11540" y="15165"/>
                  <a:pt x="11575" y="15321"/>
                  <a:pt x="11609" y="15478"/>
                </a:cubicBezTo>
              </a:path>
              <a:path w="3945" h="1613">
                <a:moveTo>
                  <a:pt x="11881" y="15180"/>
                </a:moveTo>
                <a:cubicBezTo>
                  <a:pt x="11971" y="15162"/>
                  <a:pt x="12063" y="15142"/>
                  <a:pt x="12154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6960" y="5340240"/>
            <a:ext cx="349200" cy="196920"/>
          </a:xfrm>
          <a:custGeom>
            <a:avLst/>
            <a:gdLst/>
            <a:ahLst/>
            <a:rect l="l" t="t" r="r" b="b"/>
            <a:pathLst>
              <a:path w="969" h="547">
                <a:moveTo>
                  <a:pt x="14238" y="14908"/>
                </a:moveTo>
                <a:cubicBezTo>
                  <a:pt x="14267" y="15015"/>
                  <a:pt x="14288" y="15122"/>
                  <a:pt x="14312" y="15230"/>
                </a:cubicBezTo>
              </a:path>
              <a:path w="969" h="547">
                <a:moveTo>
                  <a:pt x="14188" y="15106"/>
                </a:moveTo>
                <a:cubicBezTo>
                  <a:pt x="14238" y="15098"/>
                  <a:pt x="14287" y="15089"/>
                  <a:pt x="14337" y="15081"/>
                </a:cubicBezTo>
              </a:path>
              <a:path w="969" h="547">
                <a:moveTo>
                  <a:pt x="14734" y="14883"/>
                </a:moveTo>
                <a:cubicBezTo>
                  <a:pt x="14877" y="14832"/>
                  <a:pt x="14894" y="14824"/>
                  <a:pt x="15032" y="14883"/>
                </a:cubicBezTo>
                <a:cubicBezTo>
                  <a:pt x="14913" y="15166"/>
                  <a:pt x="15034" y="14911"/>
                  <a:pt x="15156" y="15106"/>
                </a:cubicBezTo>
                <a:cubicBezTo>
                  <a:pt x="15269" y="15287"/>
                  <a:pt x="14987" y="15346"/>
                  <a:pt x="14908" y="153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4240" y="5581800"/>
            <a:ext cx="857520" cy="963360"/>
          </a:xfrm>
          <a:custGeom>
            <a:avLst/>
            <a:gdLst/>
            <a:ahLst/>
            <a:rect l="l" t="t" r="r" b="b"/>
            <a:pathLst>
              <a:path w="2382" h="2680">
                <a:moveTo>
                  <a:pt x="11782" y="15503"/>
                </a:moveTo>
                <a:cubicBezTo>
                  <a:pt x="11762" y="15603"/>
                  <a:pt x="11752" y="15701"/>
                  <a:pt x="11733" y="15801"/>
                </a:cubicBezTo>
                <a:cubicBezTo>
                  <a:pt x="11918" y="15841"/>
                  <a:pt x="12231" y="15744"/>
                  <a:pt x="12427" y="15726"/>
                </a:cubicBezTo>
                <a:cubicBezTo>
                  <a:pt x="12486" y="15721"/>
                  <a:pt x="13045" y="15777"/>
                  <a:pt x="13097" y="15726"/>
                </a:cubicBezTo>
                <a:cubicBezTo>
                  <a:pt x="13123" y="15701"/>
                  <a:pt x="13097" y="15544"/>
                  <a:pt x="13097" y="15503"/>
                </a:cubicBezTo>
              </a:path>
              <a:path w="2382" h="2680">
                <a:moveTo>
                  <a:pt x="12452" y="16098"/>
                </a:moveTo>
                <a:cubicBezTo>
                  <a:pt x="12296" y="16187"/>
                  <a:pt x="12215" y="16407"/>
                  <a:pt x="12229" y="16594"/>
                </a:cubicBezTo>
                <a:cubicBezTo>
                  <a:pt x="12245" y="16627"/>
                  <a:pt x="12262" y="16661"/>
                  <a:pt x="12278" y="16694"/>
                </a:cubicBezTo>
                <a:cubicBezTo>
                  <a:pt x="12441" y="16660"/>
                  <a:pt x="12790" y="16524"/>
                  <a:pt x="12576" y="16272"/>
                </a:cubicBezTo>
                <a:cubicBezTo>
                  <a:pt x="12470" y="16229"/>
                  <a:pt x="12449" y="16213"/>
                  <a:pt x="12378" y="16222"/>
                </a:cubicBezTo>
              </a:path>
              <a:path w="2382" h="2680">
                <a:moveTo>
                  <a:pt x="13146" y="16346"/>
                </a:moveTo>
                <a:cubicBezTo>
                  <a:pt x="13163" y="16416"/>
                  <a:pt x="13189" y="16489"/>
                  <a:pt x="13196" y="16570"/>
                </a:cubicBezTo>
              </a:path>
              <a:path w="2382" h="2680">
                <a:moveTo>
                  <a:pt x="13122" y="16421"/>
                </a:moveTo>
                <a:cubicBezTo>
                  <a:pt x="13163" y="16413"/>
                  <a:pt x="13205" y="16404"/>
                  <a:pt x="13246" y="16396"/>
                </a:cubicBezTo>
              </a:path>
              <a:path w="2382" h="2680">
                <a:moveTo>
                  <a:pt x="13667" y="16272"/>
                </a:moveTo>
                <a:cubicBezTo>
                  <a:pt x="13775" y="16259"/>
                  <a:pt x="13853" y="16231"/>
                  <a:pt x="13965" y="16247"/>
                </a:cubicBezTo>
                <a:cubicBezTo>
                  <a:pt x="13860" y="16436"/>
                  <a:pt x="13920" y="16329"/>
                  <a:pt x="14064" y="16446"/>
                </a:cubicBezTo>
                <a:cubicBezTo>
                  <a:pt x="14302" y="16639"/>
                  <a:pt x="13844" y="16663"/>
                  <a:pt x="13767" y="16669"/>
                </a:cubicBezTo>
              </a:path>
              <a:path w="2382" h="2680">
                <a:moveTo>
                  <a:pt x="12998" y="17214"/>
                </a:moveTo>
                <a:cubicBezTo>
                  <a:pt x="13145" y="17185"/>
                  <a:pt x="13253" y="17188"/>
                  <a:pt x="13395" y="17239"/>
                </a:cubicBezTo>
                <a:cubicBezTo>
                  <a:pt x="13250" y="17456"/>
                  <a:pt x="13325" y="17337"/>
                  <a:pt x="13444" y="17487"/>
                </a:cubicBezTo>
                <a:cubicBezTo>
                  <a:pt x="13633" y="17725"/>
                  <a:pt x="13306" y="17725"/>
                  <a:pt x="13171" y="17735"/>
                </a:cubicBezTo>
              </a:path>
              <a:path w="2382" h="2680">
                <a:moveTo>
                  <a:pt x="12675" y="17934"/>
                </a:moveTo>
                <a:cubicBezTo>
                  <a:pt x="12966" y="18172"/>
                  <a:pt x="13176" y="18184"/>
                  <a:pt x="13543" y="18033"/>
                </a:cubicBezTo>
                <a:cubicBezTo>
                  <a:pt x="13754" y="17946"/>
                  <a:pt x="14165" y="17777"/>
                  <a:pt x="14114" y="17487"/>
                </a:cubicBezTo>
                <a:cubicBezTo>
                  <a:pt x="14046" y="17103"/>
                  <a:pt x="13580" y="16962"/>
                  <a:pt x="13246" y="17041"/>
                </a:cubicBezTo>
                <a:cubicBezTo>
                  <a:pt x="12918" y="17118"/>
                  <a:pt x="12503" y="17517"/>
                  <a:pt x="12526" y="17884"/>
                </a:cubicBezTo>
                <a:cubicBezTo>
                  <a:pt x="12626" y="18083"/>
                  <a:pt x="12659" y="18149"/>
                  <a:pt x="12824" y="181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38880" y="2973240"/>
            <a:ext cx="517320" cy="401760"/>
          </a:xfrm>
          <a:custGeom>
            <a:avLst/>
            <a:gdLst/>
            <a:ahLst/>
            <a:rect l="l" t="t" r="r" b="b"/>
            <a:pathLst>
              <a:path w="1440" h="1117">
                <a:moveTo>
                  <a:pt x="15106" y="8731"/>
                </a:moveTo>
                <a:cubicBezTo>
                  <a:pt x="15280" y="8941"/>
                  <a:pt x="15431" y="9168"/>
                  <a:pt x="15602" y="9376"/>
                </a:cubicBezTo>
              </a:path>
              <a:path w="1440" h="1117">
                <a:moveTo>
                  <a:pt x="15602" y="8731"/>
                </a:moveTo>
                <a:cubicBezTo>
                  <a:pt x="15464" y="8946"/>
                  <a:pt x="15308" y="9144"/>
                  <a:pt x="15156" y="9351"/>
                </a:cubicBezTo>
              </a:path>
              <a:path w="1440" h="1117">
                <a:moveTo>
                  <a:pt x="16098" y="8706"/>
                </a:moveTo>
                <a:cubicBezTo>
                  <a:pt x="16035" y="8832"/>
                  <a:pt x="16025" y="8861"/>
                  <a:pt x="15974" y="8930"/>
                </a:cubicBezTo>
                <a:cubicBezTo>
                  <a:pt x="16179" y="8884"/>
                  <a:pt x="16336" y="8888"/>
                  <a:pt x="16545" y="8905"/>
                </a:cubicBezTo>
              </a:path>
              <a:path w="1440" h="1117">
                <a:moveTo>
                  <a:pt x="16470" y="8260"/>
                </a:moveTo>
                <a:cubicBezTo>
                  <a:pt x="16392" y="8573"/>
                  <a:pt x="16314" y="8926"/>
                  <a:pt x="16321" y="9252"/>
                </a:cubicBezTo>
                <a:cubicBezTo>
                  <a:pt x="16329" y="9277"/>
                  <a:pt x="16338" y="9302"/>
                  <a:pt x="16346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2:01:59Z</dcterms:created>
  <dc:creator>Brian McGrath</dc:creator>
  <dc:description/>
  <dc:language>en-US</dc:language>
  <cp:lastModifiedBy>deanne elizabeth mcgrath</cp:lastModifiedBy>
  <dcterms:modified xsi:type="dcterms:W3CDTF">2010-09-22T18:41:58Z</dcterms:modified>
  <cp:revision>4</cp:revision>
  <dc:subject/>
  <dc:title>Objective:  Students will review their knowledge of algebra in preparation for tomorrow’s unit test.</dc:title>
</cp:coreProperties>
</file>